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4BE-72EA-4E93-BFD0-E3F3934C7E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AB5-71D8-4DD7-A58B-DB670D8B0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6170-E457-4E40-BE36-C548AC2A5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5024-1231-4F62-8FBB-C8846FF31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1482-C748-4F6E-BE22-B99F070B1E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DF9-7BC3-4706-B122-48D6CF52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82F-92D5-4B92-9744-53801CC8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2F4-BEB9-41F9-B242-3BB8089C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FA0-A08D-4D83-925A-D7EC6BC7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7FD-D729-4C41-A5AC-43409F5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377-B58B-433F-8FA3-0A4151FE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346-F85F-417D-B55A-6C3A12D8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1BD-D48F-4A1D-9F47-39A823E8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8CE-2AA9-45F3-99D8-100AA83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582-6A28-4E98-AC82-2C6C26C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147-3655-4F0F-AF4E-DCD0E93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8C2-5504-4108-89AC-2DB94AC3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71280"/>
          </a:xfrm>
          <a:prstGeom prst="rect">
            <a:avLst/>
          </a:prstGeom>
          <a:gradFill rotWithShape="0">
            <a:gsLst>
              <a:gs pos="0">
                <a:srgbClr val="0056bd"/>
              </a:gs>
              <a:gs pos="100000">
                <a:srgbClr val="89bdff">
                  <a:alpha val="0"/>
                </a:srgbClr>
              </a:gs>
            </a:gsLst>
            <a:lin ang="189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2" name="矩形 10" descr=""/>
            <p:cNvPicPr/>
            <p:nvPr/>
          </p:nvPicPr>
          <p:blipFill>
            <a:blip r:embed="rId2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4E2-9194-4031-8A5E-B8BB489819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u=575176355,2928360340&amp;fm=0&amp;gp=-32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logo211"/>
          <p:cNvPicPr/>
          <p:nvPr/>
        </p:nvPicPr>
        <p:blipFill>
          <a:blip r:embed="rId4"/>
          <a:stretch/>
        </p:blipFill>
        <p:spPr>
          <a:xfrm>
            <a:off x="0" y="0"/>
            <a:ext cx="7848720" cy="9828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u=575176355,2928360340&amp;fm=0&amp;gp=-32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logo211"/>
          <p:cNvPicPr/>
          <p:nvPr/>
        </p:nvPicPr>
        <p:blipFill>
          <a:blip r:embed="rId6"/>
          <a:stretch/>
        </p:blipFill>
        <p:spPr>
          <a:xfrm>
            <a:off x="0" y="0"/>
            <a:ext cx="7848720" cy="98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5906" t="22143" r="59655" b="21774"/>
          <a:stretch/>
        </p:blipFill>
        <p:spPr>
          <a:xfrm>
            <a:off x="0" y="981000"/>
            <a:ext cx="1798560" cy="1666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868320" y="1938240"/>
            <a:ext cx="83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危险化学品目录（</a:t>
            </a:r>
            <a:r>
              <a:rPr b="1" lang="en-US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2015</a:t>
            </a:r>
            <a:r>
              <a:rPr b="1" lang="zh-CN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版）</a:t>
            </a:r>
            <a:r>
              <a:rPr b="1" lang="en-US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477ab1"/>
                </a:solidFill>
                <a:latin typeface="Arial"/>
                <a:ea typeface="楷体_GB2312"/>
              </a:rPr>
              <a:t>解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76360" y="4724280"/>
            <a:ext cx="61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国家安监总局监管三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2015</a:t>
            </a:r>
            <a:r>
              <a:rPr b="1" lang="zh-CN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477ab1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2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33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803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2"/>
          <p:cNvSpPr/>
          <p:nvPr/>
        </p:nvSpPr>
        <p:spPr>
          <a:xfrm>
            <a:off x="716040" y="1809720"/>
            <a:ext cx="7888320" cy="32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存在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原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分类体系已不适应现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分类体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有“铝导线焊接药包”、“火柴”等物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有“火补胶”、“生牛皮杀虫药”等成分不明物质。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8" name="矩形 4"/>
          <p:cNvGrpSpPr/>
          <p:nvPr/>
        </p:nvGrpSpPr>
        <p:grpSpPr>
          <a:xfrm>
            <a:off x="743040" y="1030320"/>
            <a:ext cx="7499160" cy="858960"/>
            <a:chOff x="743040" y="1030320"/>
            <a:chExt cx="7499160" cy="858960"/>
          </a:xfrm>
        </p:grpSpPr>
        <p:pic>
          <p:nvPicPr>
            <p:cNvPr id="139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499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63560" y="1049400"/>
              <a:ext cx="74646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二、制定过程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016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2"/>
          <p:cNvSpPr/>
          <p:nvPr/>
        </p:nvSpPr>
        <p:spPr>
          <a:xfrm>
            <a:off x="716040" y="1809720"/>
            <a:ext cx="757872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次会议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召开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《目录》制修订工作领导小组，由国家安全监管总局、工业和信息化部、公安部、环境保护部、交通运输部、农业部、国家卫计委、质检总局、铁路局、民航局共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部门组成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了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制修订办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《目录》制修订工作专家组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国家安全监管总局化学品登记中心设立《目录》制修订工作组，承担目录制修订的具体工作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44" name="矩形 4"/>
          <p:cNvGrpSpPr/>
          <p:nvPr/>
        </p:nvGrpSpPr>
        <p:grpSpPr>
          <a:xfrm>
            <a:off x="743040" y="1030320"/>
            <a:ext cx="7499160" cy="487440"/>
            <a:chOff x="743040" y="1030320"/>
            <a:chExt cx="7499160" cy="487440"/>
          </a:xfrm>
        </p:grpSpPr>
        <p:pic>
          <p:nvPicPr>
            <p:cNvPr id="145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499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63560" y="1049400"/>
              <a:ext cx="7464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二、制定过程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035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2"/>
          <p:cNvSpPr/>
          <p:nvPr/>
        </p:nvSpPr>
        <p:spPr>
          <a:xfrm>
            <a:off x="716040" y="1809720"/>
            <a:ext cx="757872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第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制修订工作会议决定简化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栏目，化学品危险性分类等信息在配套指南中列出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领导小组会议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制修订工作会议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专题会议，形成了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（征求意见稿）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经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同意后向社会公开征求意见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到各界意见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条，召开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工作会议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专题会议，反复研究修改完善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（征求意见稿）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联合公告《目录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》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50" name="矩形 4"/>
          <p:cNvGrpSpPr/>
          <p:nvPr/>
        </p:nvGrpSpPr>
        <p:grpSpPr>
          <a:xfrm>
            <a:off x="743040" y="1030320"/>
            <a:ext cx="7499160" cy="487440"/>
            <a:chOff x="743040" y="1030320"/>
            <a:chExt cx="7499160" cy="487440"/>
          </a:xfrm>
        </p:grpSpPr>
        <p:pic>
          <p:nvPicPr>
            <p:cNvPr id="151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499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63560" y="1049400"/>
              <a:ext cx="7464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、制定原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035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2"/>
          <p:cNvSpPr/>
          <p:nvPr/>
        </p:nvSpPr>
        <p:spPr>
          <a:xfrm>
            <a:off x="716040" y="1809720"/>
            <a:ext cx="7578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原则：在与现行管理相衔接、平稳过渡的基础上逐步与国际接轨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化学品分类和标签系列国家标准，从化学品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9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危险类别中，选取了其中危险性较大的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81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类别作为危险化学品的确定原则；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危险性较小的危险性类别的化学品，不纳入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，其中物理危险性类别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、健康危害类别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环境危害类别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 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56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57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、制定原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"/>
          <p:cNvGraphicFramePr/>
          <p:nvPr/>
        </p:nvGraphicFramePr>
        <p:xfrm>
          <a:off x="687240" y="1628640"/>
          <a:ext cx="7715520" cy="5081760"/>
        </p:xfrm>
        <a:graphic>
          <a:graphicData uri="http://schemas.openxmlformats.org/drawingml/2006/table">
            <a:tbl>
              <a:tblPr/>
              <a:tblGrid>
                <a:gridCol w="725760"/>
                <a:gridCol w="1798560"/>
                <a:gridCol w="741240"/>
                <a:gridCol w="741600"/>
                <a:gridCol w="741240"/>
                <a:gridCol w="741240"/>
                <a:gridCol w="741600"/>
                <a:gridCol w="742680"/>
                <a:gridCol w="741600"/>
              </a:tblGrid>
              <a:tr h="227160"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危险和危害种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别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rowSpan="1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危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爆炸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稳定爆炸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易燃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化学不稳定性气体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化学不稳定性气体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气溶胶（又称气雾剂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氧化性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加压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压缩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化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冷冻液化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解气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易燃液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易燃固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反应物质和混合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热物质和混合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燃液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燃固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遇水放出易燃气体的物质和混合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金属腐蚀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氧化性液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氧化性固体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有机过氧化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61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62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、制定原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681120" y="1601640"/>
          <a:ext cx="7715160" cy="4899240"/>
        </p:xfrm>
        <a:graphic>
          <a:graphicData uri="http://schemas.openxmlformats.org/drawingml/2006/table">
            <a:tbl>
              <a:tblPr/>
              <a:tblGrid>
                <a:gridCol w="874800"/>
                <a:gridCol w="1649160"/>
                <a:gridCol w="741600"/>
                <a:gridCol w="741240"/>
                <a:gridCol w="741240"/>
                <a:gridCol w="741600"/>
                <a:gridCol w="741240"/>
                <a:gridCol w="743040"/>
                <a:gridCol w="741240"/>
              </a:tblGrid>
              <a:tr h="219240"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危险和危害种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别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 rowSpan="10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健康危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毒性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皮肤腐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刺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严重眼损伤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眼刺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呼吸道或皮肤致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呼吸道致敏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呼吸道致敏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皮肤致敏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皮肤致敏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殖细胞致突变性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致癌性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殖毒性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附加类别（哺乳效应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异性靶器官毒性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次接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异性靶器官毒性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反复接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吸入危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环境危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危害水生环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期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期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期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期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危害臭氧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 gridSpan="9">
                  <a:txBody>
                    <a:bodyPr lIns="63360" rIns="63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底色为橙色是指列入危险化学品确定原则的类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底色为浅蓝色是指未列入危险化学品确定原则的类别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66" name="矩形 4"/>
          <p:cNvGrpSpPr/>
          <p:nvPr/>
        </p:nvGrpSpPr>
        <p:grpSpPr>
          <a:xfrm>
            <a:off x="743040" y="1030320"/>
            <a:ext cx="7499160" cy="487440"/>
            <a:chOff x="743040" y="1030320"/>
            <a:chExt cx="7499160" cy="487440"/>
          </a:xfrm>
        </p:grpSpPr>
        <p:pic>
          <p:nvPicPr>
            <p:cNvPr id="167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499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63560" y="1049400"/>
              <a:ext cx="7464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、制定原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0356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2"/>
          <p:cNvSpPr/>
          <p:nvPr/>
        </p:nvSpPr>
        <p:spPr>
          <a:xfrm>
            <a:off x="716040" y="1809720"/>
            <a:ext cx="757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确定原则，对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毒化学品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版）中的化学品条目逐一研究，除有充分理由不宜保留且通过专家论证、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同意的化学品外，其余化学品均纳入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联合国危险货物运输建议书、鹿特丹公约等国际公约、欧盟等有关化学品危险性分类目录，以及国内危险化学品管理的实际需要，提出新增化学品条目，经专家论证、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同意后纳入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72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73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、与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危险化学品名录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版）对比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541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2"/>
          <p:cNvSpPr/>
          <p:nvPr/>
        </p:nvSpPr>
        <p:spPr>
          <a:xfrm>
            <a:off x="716040" y="1809720"/>
            <a:ext cx="75787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剧毒化学品合并到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，二合一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的定义变化，范围扩大，增加健康和环境危害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毒化学品的定义和判定界限变化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条目共减少了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34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占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.6%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其中剧毒化学品的条目减少了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7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占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.8%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目录特点：突出重点，协调一致，国际接轨，使用方便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78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79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、与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危险化学品名录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版）对比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1753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2"/>
          <p:cNvSpPr/>
          <p:nvPr/>
        </p:nvSpPr>
        <p:spPr>
          <a:xfrm>
            <a:off x="716040" y="1809720"/>
            <a:ext cx="757872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的化学品条目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列入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鹿特丹公约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《斯德哥尔摩公约》等国际公约的化学品条目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例如短链氯化石蜡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10-1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多氯三联苯；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已列入《中国严格限制进出口的有毒化学品目录》和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使用量的数量标准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版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国内相关目录的化学品条目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例如硫化汞、三光气；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参照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国危险货物运输的建议书 规章范本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欧盟等化学品危险性分类目录，根据化学品的危险性及国内生产情况，增加化学品条目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例如二硫化钛、二氧化氮；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根据近年来刑事案件情况，增加氯化琥珀胆碱、氟乙酸甲酯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84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85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、与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危险化学品名录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版）对比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2"/>
          <p:cNvSpPr/>
          <p:nvPr/>
        </p:nvSpPr>
        <p:spPr>
          <a:xfrm>
            <a:off x="716040" y="1809720"/>
            <a:ext cx="7578720" cy="27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并调整或者删除的化学品条目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将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中“含一级易燃溶剂的合成树脂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[-1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℃≤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闪点＜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℃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“含二级易燃溶剂的油漆、辅助材料及涂料”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类属条目及其所含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具体化学品条目合并为一个类属条目，即序号“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2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目。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符合条件的均属于危险化学品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将部分相同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的条目合并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条目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61" name="矩形 3"/>
          <p:cNvGrpSpPr/>
          <p:nvPr/>
        </p:nvGrpSpPr>
        <p:grpSpPr>
          <a:xfrm>
            <a:off x="743040" y="1030320"/>
            <a:ext cx="7565760" cy="487440"/>
            <a:chOff x="743040" y="1030320"/>
            <a:chExt cx="7565760" cy="487440"/>
          </a:xfrm>
        </p:grpSpPr>
        <p:pic>
          <p:nvPicPr>
            <p:cNvPr id="62" name="矩形 3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63560" y="1049400"/>
              <a:ext cx="753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       容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Rectangle 20" descr=""/>
          <p:cNvPicPr/>
          <p:nvPr/>
        </p:nvPicPr>
        <p:blipFill>
          <a:blip r:embed="rId3"/>
          <a:stretch/>
        </p:blipFill>
        <p:spPr>
          <a:xfrm>
            <a:off x="353880" y="2517840"/>
            <a:ext cx="8277480" cy="10173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20" descr=""/>
          <p:cNvPicPr/>
          <p:nvPr/>
        </p:nvPicPr>
        <p:blipFill>
          <a:blip r:embed="rId4"/>
          <a:stretch/>
        </p:blipFill>
        <p:spPr>
          <a:xfrm>
            <a:off x="360360" y="4054320"/>
            <a:ext cx="8277120" cy="10112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0" descr=""/>
          <p:cNvPicPr/>
          <p:nvPr/>
        </p:nvPicPr>
        <p:blipFill>
          <a:blip r:embed="rId5"/>
          <a:stretch/>
        </p:blipFill>
        <p:spPr>
          <a:xfrm>
            <a:off x="365040" y="3273480"/>
            <a:ext cx="8278920" cy="1012680"/>
          </a:xfrm>
          <a:prstGeom prst="rect">
            <a:avLst/>
          </a:prstGeom>
          <a:ln w="0">
            <a:noFill/>
          </a:ln>
        </p:spPr>
      </p:pic>
      <p:pic>
        <p:nvPicPr>
          <p:cNvPr id="67" name="圆角矩形 7" descr=""/>
          <p:cNvPicPr/>
          <p:nvPr/>
        </p:nvPicPr>
        <p:blipFill>
          <a:blip r:embed="rId6"/>
          <a:stretch/>
        </p:blipFill>
        <p:spPr>
          <a:xfrm>
            <a:off x="457200" y="2597040"/>
            <a:ext cx="1481040" cy="889200"/>
          </a:xfrm>
          <a:prstGeom prst="rect">
            <a:avLst/>
          </a:prstGeom>
          <a:ln w="0">
            <a:noFill/>
          </a:ln>
        </p:spPr>
      </p:pic>
      <p:pic>
        <p:nvPicPr>
          <p:cNvPr id="68" name="矩形 8" descr=""/>
          <p:cNvPicPr/>
          <p:nvPr/>
        </p:nvPicPr>
        <p:blipFill>
          <a:blip r:embed="rId7"/>
          <a:stretch/>
        </p:blipFill>
        <p:spPr>
          <a:xfrm>
            <a:off x="682560" y="2670120"/>
            <a:ext cx="1030320" cy="944640"/>
          </a:xfrm>
          <a:prstGeom prst="rect">
            <a:avLst/>
          </a:prstGeom>
          <a:ln w="0">
            <a:noFill/>
          </a:ln>
        </p:spPr>
      </p:pic>
      <p:pic>
        <p:nvPicPr>
          <p:cNvPr id="69" name="圆角矩形 9" descr=""/>
          <p:cNvPicPr/>
          <p:nvPr/>
        </p:nvPicPr>
        <p:blipFill>
          <a:blip r:embed="rId8"/>
          <a:stretch/>
        </p:blipFill>
        <p:spPr>
          <a:xfrm>
            <a:off x="450720" y="4102200"/>
            <a:ext cx="1494000" cy="890640"/>
          </a:xfrm>
          <a:prstGeom prst="rect">
            <a:avLst/>
          </a:prstGeom>
          <a:ln w="0">
            <a:noFill/>
          </a:ln>
        </p:spPr>
      </p:pic>
      <p:pic>
        <p:nvPicPr>
          <p:cNvPr id="70" name="矩形 10" descr=""/>
          <p:cNvPicPr/>
          <p:nvPr/>
        </p:nvPicPr>
        <p:blipFill>
          <a:blip r:embed="rId9"/>
          <a:stretch/>
        </p:blipFill>
        <p:spPr>
          <a:xfrm>
            <a:off x="689040" y="4200480"/>
            <a:ext cx="1030320" cy="951120"/>
          </a:xfrm>
          <a:prstGeom prst="rect">
            <a:avLst/>
          </a:prstGeom>
          <a:ln w="0">
            <a:noFill/>
          </a:ln>
        </p:spPr>
      </p:pic>
      <p:pic>
        <p:nvPicPr>
          <p:cNvPr id="71" name="圆角矩形 11" descr=""/>
          <p:cNvPicPr/>
          <p:nvPr/>
        </p:nvPicPr>
        <p:blipFill>
          <a:blip r:embed="rId10"/>
          <a:stretch/>
        </p:blipFill>
        <p:spPr>
          <a:xfrm>
            <a:off x="463680" y="3352680"/>
            <a:ext cx="1474560" cy="895320"/>
          </a:xfrm>
          <a:prstGeom prst="rect">
            <a:avLst/>
          </a:prstGeom>
          <a:ln w="0">
            <a:noFill/>
          </a:ln>
        </p:spPr>
      </p:pic>
      <p:pic>
        <p:nvPicPr>
          <p:cNvPr id="72" name="矩形 12" descr=""/>
          <p:cNvPicPr/>
          <p:nvPr/>
        </p:nvPicPr>
        <p:blipFill>
          <a:blip r:embed="rId11"/>
          <a:stretch/>
        </p:blipFill>
        <p:spPr>
          <a:xfrm>
            <a:off x="706320" y="3475080"/>
            <a:ext cx="1030320" cy="944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1711440" y="4308480"/>
            <a:ext cx="6572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5968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对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"/>
          <p:cNvSpPr/>
          <p:nvPr/>
        </p:nvSpPr>
        <p:spPr>
          <a:xfrm>
            <a:off x="1724040" y="3511440"/>
            <a:ext cx="6039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原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0" descr=""/>
          <p:cNvPicPr/>
          <p:nvPr/>
        </p:nvPicPr>
        <p:blipFill>
          <a:blip r:embed="rId12"/>
          <a:stretch/>
        </p:blipFill>
        <p:spPr>
          <a:xfrm>
            <a:off x="360360" y="1768320"/>
            <a:ext cx="8277120" cy="1011240"/>
          </a:xfrm>
          <a:prstGeom prst="rect">
            <a:avLst/>
          </a:prstGeom>
          <a:ln w="0">
            <a:noFill/>
          </a:ln>
        </p:spPr>
      </p:pic>
      <p:pic>
        <p:nvPicPr>
          <p:cNvPr id="76" name="圆角矩形 19" descr=""/>
          <p:cNvPicPr/>
          <p:nvPr/>
        </p:nvPicPr>
        <p:blipFill>
          <a:blip r:embed="rId13"/>
          <a:stretch/>
        </p:blipFill>
        <p:spPr>
          <a:xfrm>
            <a:off x="457200" y="1809720"/>
            <a:ext cx="1487520" cy="897120"/>
          </a:xfrm>
          <a:prstGeom prst="rect">
            <a:avLst/>
          </a:prstGeom>
          <a:ln w="0">
            <a:noFill/>
          </a:ln>
        </p:spPr>
      </p:pic>
      <p:pic>
        <p:nvPicPr>
          <p:cNvPr id="77" name="矩形 20" descr=""/>
          <p:cNvPicPr/>
          <p:nvPr/>
        </p:nvPicPr>
        <p:blipFill>
          <a:blip r:embed="rId14"/>
          <a:stretch/>
        </p:blipFill>
        <p:spPr>
          <a:xfrm>
            <a:off x="689040" y="1914480"/>
            <a:ext cx="1030320" cy="944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1714680" y="2021040"/>
            <a:ext cx="6484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背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20" descr=""/>
          <p:cNvPicPr/>
          <p:nvPr/>
        </p:nvPicPr>
        <p:blipFill>
          <a:blip r:embed="rId15"/>
          <a:stretch/>
        </p:blipFill>
        <p:spPr>
          <a:xfrm>
            <a:off x="378000" y="5553000"/>
            <a:ext cx="8278560" cy="1013040"/>
          </a:xfrm>
          <a:prstGeom prst="rect">
            <a:avLst/>
          </a:prstGeom>
          <a:ln w="0">
            <a:noFill/>
          </a:ln>
        </p:spPr>
      </p:pic>
      <p:pic>
        <p:nvPicPr>
          <p:cNvPr id="80" name="圆角矩形 23" descr=""/>
          <p:cNvPicPr/>
          <p:nvPr/>
        </p:nvPicPr>
        <p:blipFill>
          <a:blip r:embed="rId16"/>
          <a:stretch/>
        </p:blipFill>
        <p:spPr>
          <a:xfrm>
            <a:off x="476280" y="5638680"/>
            <a:ext cx="1474920" cy="890640"/>
          </a:xfrm>
          <a:prstGeom prst="rect">
            <a:avLst/>
          </a:prstGeom>
          <a:ln w="0">
            <a:noFill/>
          </a:ln>
        </p:spPr>
      </p:pic>
      <p:pic>
        <p:nvPicPr>
          <p:cNvPr id="81" name="矩形 24" descr=""/>
          <p:cNvPicPr/>
          <p:nvPr/>
        </p:nvPicPr>
        <p:blipFill>
          <a:blip r:embed="rId17"/>
          <a:stretch/>
        </p:blipFill>
        <p:spPr>
          <a:xfrm>
            <a:off x="719280" y="5754600"/>
            <a:ext cx="1030320" cy="951120"/>
          </a:xfrm>
          <a:prstGeom prst="rect">
            <a:avLst/>
          </a:prstGeom>
          <a:ln w="0">
            <a:noFill/>
          </a:ln>
        </p:spPr>
      </p:pic>
      <p:sp>
        <p:nvSpPr>
          <p:cNvPr id="82" name="矩形 14"/>
          <p:cNvSpPr/>
          <p:nvPr/>
        </p:nvSpPr>
        <p:spPr>
          <a:xfrm>
            <a:off x="1736640" y="5792760"/>
            <a:ext cx="6037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5968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有关事项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20" descr=""/>
          <p:cNvPicPr/>
          <p:nvPr/>
        </p:nvPicPr>
        <p:blipFill>
          <a:blip r:embed="rId18"/>
          <a:stretch/>
        </p:blipFill>
        <p:spPr>
          <a:xfrm>
            <a:off x="371520" y="4821120"/>
            <a:ext cx="8278920" cy="1019160"/>
          </a:xfrm>
          <a:prstGeom prst="rect">
            <a:avLst/>
          </a:prstGeom>
          <a:ln w="0">
            <a:noFill/>
          </a:ln>
        </p:spPr>
      </p:pic>
      <p:pic>
        <p:nvPicPr>
          <p:cNvPr id="84" name="圆角矩形 27" descr=""/>
          <p:cNvPicPr/>
          <p:nvPr/>
        </p:nvPicPr>
        <p:blipFill>
          <a:blip r:embed="rId19"/>
          <a:stretch/>
        </p:blipFill>
        <p:spPr>
          <a:xfrm>
            <a:off x="476280" y="4900680"/>
            <a:ext cx="148104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8" descr=""/>
          <p:cNvPicPr/>
          <p:nvPr/>
        </p:nvPicPr>
        <p:blipFill>
          <a:blip r:embed="rId20"/>
          <a:stretch/>
        </p:blipFill>
        <p:spPr>
          <a:xfrm>
            <a:off x="701640" y="4973760"/>
            <a:ext cx="1030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90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91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、与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危险化学品名录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版）对比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34066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2"/>
          <p:cNvSpPr/>
          <p:nvPr/>
        </p:nvSpPr>
        <p:spPr>
          <a:xfrm>
            <a:off x="716040" y="1809720"/>
            <a:ext cx="7578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删除了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中的军事毒剂、物品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。例如，铝导线焊接药包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其他删除的化学品条目情况，不符合危险化学品确定原则的、成分不明的，以及国内没有登记的农药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个化学品条目。例如，火补胶、保米磷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96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97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、剧毒化学品变化情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735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2"/>
          <p:cNvSpPr/>
          <p:nvPr/>
        </p:nvSpPr>
        <p:spPr>
          <a:xfrm>
            <a:off x="716040" y="1809720"/>
            <a:ext cx="75787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剧烈急性毒性危害的化学品，包括人工合成的化学品及其混合物和天然毒素，还包括具有急性毒性易造成公共安全危害的化学品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增加了“具有急性毒性易造成公共安全危害的化学品”。根据有关部门提出容易造成公共安全危害，同时具有较高急性毒性（符合急性毒性，类别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化学品，经过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同意后纳入剧毒化学品管理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02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203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、剧毒化学品变化情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1516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2"/>
          <p:cNvSpPr/>
          <p:nvPr/>
        </p:nvSpPr>
        <p:spPr>
          <a:xfrm>
            <a:off x="716040" y="1809720"/>
            <a:ext cx="7578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烈急性毒性判定界限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急性毒性，类别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对比如下：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12880" y="2451240"/>
          <a:ext cx="7451640" cy="3795480"/>
        </p:xfrm>
        <a:graphic>
          <a:graphicData uri="http://schemas.openxmlformats.org/drawingml/2006/table">
            <a:tbl>
              <a:tblPr/>
              <a:tblGrid>
                <a:gridCol w="1581120"/>
                <a:gridCol w="2852640"/>
                <a:gridCol w="3017880"/>
              </a:tblGrid>
              <a:tr h="7855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染毒途径或危险类别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目录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5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版）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剧毒化学品目录》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2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版）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经口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D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mg/kg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D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mg/kg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经皮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D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mg/kg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D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mg/kg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吸入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h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C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ml/m</a:t>
                      </a:r>
                      <a:r>
                        <a:rPr b="1" lang="en-US" sz="22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气体）或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5mg/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蒸气）或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05mg/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尘、雾）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h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LC</a:t>
                      </a:r>
                      <a:r>
                        <a:rPr b="1" lang="en-US" sz="22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≤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0ppm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气体）或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mg/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蒸气）或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5mg/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尘、雾）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对应的危险类别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毒性，类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急性毒性，类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和类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09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210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、剧毒化学品变化情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5175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2"/>
          <p:cNvSpPr/>
          <p:nvPr/>
        </p:nvSpPr>
        <p:spPr>
          <a:xfrm>
            <a:off x="716040" y="1809720"/>
            <a:ext cx="757872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化情况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有剧毒化学品条目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毒化学品目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版）中的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化学品继续作为剧毒化学品管理；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列入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危险化学品管理；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未列入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其中农药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、军事毒剂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）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新增一氟乙酸对溴苯胺、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,3,4,7,8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氯二苯并呋喃、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硝基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-4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氧基苯胺、氟乙酸甲酯共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剧毒化学品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中的氯化氰、三正丁胺、亚砷酸钙、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(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氯苯基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)-2,8,9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氧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氮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-1-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硅双环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,3,3)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二烷（毒鼠硅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个化学品条目作为剧毒化学品管理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15" name="矩形 4"/>
          <p:cNvGrpSpPr/>
          <p:nvPr/>
        </p:nvGrpSpPr>
        <p:grpSpPr>
          <a:xfrm>
            <a:off x="743040" y="1030320"/>
            <a:ext cx="7565760" cy="487440"/>
            <a:chOff x="743040" y="1030320"/>
            <a:chExt cx="7565760" cy="487440"/>
          </a:xfrm>
        </p:grpSpPr>
        <p:pic>
          <p:nvPicPr>
            <p:cNvPr id="216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63560" y="1049400"/>
              <a:ext cx="753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六、其他有关事项说明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圆角矩形 8" descr=""/>
          <p:cNvPicPr/>
          <p:nvPr/>
        </p:nvPicPr>
        <p:blipFill>
          <a:blip r:embed="rId3"/>
          <a:stretch/>
        </p:blipFill>
        <p:spPr>
          <a:xfrm>
            <a:off x="353880" y="1596960"/>
            <a:ext cx="8309160" cy="4737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2"/>
          <p:cNvSpPr/>
          <p:nvPr/>
        </p:nvSpPr>
        <p:spPr>
          <a:xfrm>
            <a:off x="716040" y="1809720"/>
            <a:ext cx="757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化学品不断出现，对化学品危险性认识不断提高，根据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例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适时对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行调整，不断补充和完善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危险化学品确定原则的化学品，并未全部列入《目录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》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列入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经鉴定分类属于危险化学品的，按照国家有关规定进行管理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W020061012491040259254"/>
          <p:cNvPicPr/>
          <p:nvPr/>
        </p:nvPicPr>
        <p:blipFill>
          <a:blip r:embed="rId1"/>
          <a:stretch/>
        </p:blipFill>
        <p:spPr>
          <a:xfrm>
            <a:off x="0" y="0"/>
            <a:ext cx="449568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2551275720060803142555_64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J-325"/>
          <p:cNvPicPr/>
          <p:nvPr/>
        </p:nvPicPr>
        <p:blipFill>
          <a:blip r:embed="rId3"/>
          <a:srcRect l="0" t="3311" r="0" b="0"/>
          <a:stretch/>
        </p:blipFill>
        <p:spPr>
          <a:xfrm>
            <a:off x="6588000" y="4149720"/>
            <a:ext cx="228456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179280" y="2781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00"/>
                </a:solidFill>
                <a:latin typeface="Arial"/>
                <a:ea typeface="华文行楷"/>
              </a:rPr>
              <a:t>     </a:t>
            </a:r>
            <a:r>
              <a:rPr b="0" lang="zh-CN" sz="9600" spc="-1" strike="noStrike">
                <a:solidFill>
                  <a:srgbClr val="ff9900"/>
                </a:solidFill>
                <a:latin typeface="Arial"/>
                <a:ea typeface="华文行楷"/>
              </a:rPr>
              <a:t>谢谢大家！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87" name="矩形 4"/>
          <p:cNvGrpSpPr/>
          <p:nvPr/>
        </p:nvGrpSpPr>
        <p:grpSpPr>
          <a:xfrm>
            <a:off x="743040" y="1030320"/>
            <a:ext cx="7565760" cy="487440"/>
            <a:chOff x="743040" y="1030320"/>
            <a:chExt cx="7565760" cy="487440"/>
          </a:xfrm>
        </p:grpSpPr>
        <p:pic>
          <p:nvPicPr>
            <p:cNvPr id="88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63560" y="1049400"/>
              <a:ext cx="753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595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2"/>
          <p:cNvSpPr/>
          <p:nvPr/>
        </p:nvSpPr>
        <p:spPr>
          <a:xfrm>
            <a:off x="716040" y="1809720"/>
            <a:ext cx="76723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落实《危险化学品安全管理条例》的重要基础性文件，是企业落实危险化学品安全管理主体责任，以及相关部门实施监督管理的重要依据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例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定，国家安全监管总局会同国务院工业和信息化、公安、环境保护、卫生、质量监督检验检疫、交通运输、铁路、民用航空、农业主管部门制定了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于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起实施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、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毒化学品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版）同时予以废止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94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456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2"/>
          <p:cNvSpPr/>
          <p:nvPr/>
        </p:nvSpPr>
        <p:spPr>
          <a:xfrm>
            <a:off x="716040" y="1809720"/>
            <a:ext cx="75787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由国家安全监管局公告，包括危险化学品条目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2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毒化学品目录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版），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3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由国家安全监管局、公安部等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公告，包括剧毒化学品条目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35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（含剧毒）条目共计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62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99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00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圆角矩形 8" descr=""/>
          <p:cNvPicPr/>
          <p:nvPr/>
        </p:nvPicPr>
        <p:blipFill>
          <a:blip r:embed="rId3"/>
          <a:stretch/>
        </p:blipFill>
        <p:spPr>
          <a:xfrm>
            <a:off x="219240" y="1457280"/>
            <a:ext cx="8308800" cy="4894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2"/>
          <p:cNvSpPr/>
          <p:nvPr/>
        </p:nvSpPr>
        <p:spPr>
          <a:xfrm>
            <a:off x="716040" y="1809720"/>
            <a:ext cx="757872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安全管理条例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国务院令第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1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条　本条例所称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危险化学品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指具有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毒害、腐蚀、爆炸、燃烧、助燃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性质，对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体、设施、环境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危害的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剧毒化学品和其他化学品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目录，由国务院安监部门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会同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务院工信、公安、环保、卫生、质检、交通、铁路、民航、农业部门，根据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化学品危险特性的鉴别和分类标准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、公布，并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适时调整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05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06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894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2"/>
          <p:cNvSpPr/>
          <p:nvPr/>
        </p:nvSpPr>
        <p:spPr>
          <a:xfrm>
            <a:off x="716040" y="1809720"/>
            <a:ext cx="757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全球化学品统一分类和标签制度》（</a:t>
            </a:r>
            <a:r>
              <a:rPr b="1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S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实施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联合国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S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我国制定了化学品危险性分类和标签规范系列标准，确立了化学品危险性分类体系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化学品名录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）主要采用爆炸品、易燃液体等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的分类体系，与现行化学品危险性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的分类体系有巨大差异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11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12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308800" cy="4894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703440" y="1738440"/>
            <a:ext cx="74674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危险化学品名录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2002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版）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类分类体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爆炸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缩气体和液化气体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燃液体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燃固体、自燃物品和遇湿易燃物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氧化剂和有机过氧化物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毒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射性物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腐蚀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18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510400" cy="5108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879480" y="1862280"/>
            <a:ext cx="74152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现行化学品危险性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28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类分类体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微软雅黑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物理化学危害（共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16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类）：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44640" y="2870280"/>
          <a:ext cx="7659720" cy="3354480"/>
        </p:xfrm>
        <a:graphic>
          <a:graphicData uri="http://schemas.openxmlformats.org/drawingml/2006/table">
            <a:tbl>
              <a:tblPr/>
              <a:tblGrid>
                <a:gridCol w="3524040"/>
                <a:gridCol w="4135680"/>
              </a:tblGrid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爆炸物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9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燃液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2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易燃气体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0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燃固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3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气溶胶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1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热物质和混合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4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氧化性气体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2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遇水放出易燃气体的物质和混合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5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加压气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3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氧化性液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6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易燃液体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4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氧化性固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7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易燃固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5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机过氧化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8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反应物质和混合物     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6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属腐蚀物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0" descr=""/>
          <p:cNvPicPr/>
          <p:nvPr/>
        </p:nvPicPr>
        <p:blipFill>
          <a:blip r:embed="rId1"/>
          <a:stretch/>
        </p:blipFill>
        <p:spPr>
          <a:xfrm>
            <a:off x="390600" y="817560"/>
            <a:ext cx="82724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24" name="矩形 4"/>
          <p:cNvGrpSpPr/>
          <p:nvPr/>
        </p:nvGrpSpPr>
        <p:grpSpPr>
          <a:xfrm>
            <a:off x="743040" y="1030320"/>
            <a:ext cx="7565760" cy="858960"/>
            <a:chOff x="743040" y="1030320"/>
            <a:chExt cx="7565760" cy="858960"/>
          </a:xfrm>
        </p:grpSpPr>
        <p:pic>
          <p:nvPicPr>
            <p:cNvPr id="125" name="矩形 4" descr=""/>
            <p:cNvPicPr/>
            <p:nvPr/>
          </p:nvPicPr>
          <p:blipFill>
            <a:blip r:embed="rId2"/>
            <a:stretch/>
          </p:blipFill>
          <p:spPr>
            <a:xfrm>
              <a:off x="743040" y="1030320"/>
              <a:ext cx="7565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63560" y="1049400"/>
              <a:ext cx="753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、制定背景 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805968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圆角矩形 8" descr=""/>
          <p:cNvPicPr/>
          <p:nvPr/>
        </p:nvPicPr>
        <p:blipFill>
          <a:blip r:embed="rId3"/>
          <a:stretch/>
        </p:blipFill>
        <p:spPr>
          <a:xfrm>
            <a:off x="371520" y="1573200"/>
            <a:ext cx="8510400" cy="5108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879480" y="1862280"/>
            <a:ext cx="74152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2) 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健康危害 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共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类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4560" y="2451240"/>
          <a:ext cx="7451640" cy="2097000"/>
        </p:xfrm>
        <a:graphic>
          <a:graphicData uri="http://schemas.openxmlformats.org/drawingml/2006/table">
            <a:tbl>
              <a:tblPr/>
              <a:tblGrid>
                <a:gridCol w="3429000"/>
                <a:gridCol w="4022640"/>
              </a:tblGrid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急性毒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6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致癌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2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皮肤腐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刺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7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殖毒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3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严重眼损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眼刺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8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特异性靶器官毒性 一次接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4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呼吸道或皮肤致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9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特异性靶器官毒性 反复接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5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殖细胞致突变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240" rIns="8424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10)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吸入危害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2"/>
          <p:cNvSpPr/>
          <p:nvPr/>
        </p:nvSpPr>
        <p:spPr>
          <a:xfrm>
            <a:off x="812880" y="4546440"/>
            <a:ext cx="657864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ts val="2361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3) 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危害 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共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类</a:t>
            </a:r>
            <a:r>
              <a:rPr b="1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61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害水生环境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61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害臭氧层：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61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39:17Z</dcterms:created>
  <dc:creator>chenm</dc:creator>
  <dc:description/>
  <dc:language>en-US</dc:language>
  <cp:lastModifiedBy>裐অꠀ౮_x000b_</cp:lastModifiedBy>
  <dcterms:modified xsi:type="dcterms:W3CDTF">2015-04-09T07:25:50Z</dcterms:modified>
  <cp:revision>1075</cp:revision>
  <dc:subject/>
  <dc:title>PowerPoint 演示文稿</dc:title>
</cp:coreProperties>
</file>