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6.png" ContentType="image/png"/>
  <Override PartName="/ppt/media/image13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0.wmf" ContentType="image/x-wmf"/>
  <Override PartName="/ppt/media/image38.wmf" ContentType="image/x-wmf"/>
  <Override PartName="/ppt/media/image35.png" ContentType="image/png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42.wmf" ContentType="image/x-wmf"/>
  <Override PartName="/ppt/media/image8.png" ContentType="image/png"/>
  <Override PartName="/ppt/media/image17.png" ContentType="image/png"/>
  <Override PartName="/ppt/media/image20.wmf" ContentType="image/x-wmf"/>
  <Override PartName="/ppt/media/image21.wmf" ContentType="image/x-wmf"/>
  <Override PartName="/ppt/media/image1.jpeg" ContentType="image/jpeg"/>
  <Override PartName="/ppt/media/image70.wmf" ContentType="image/x-wmf"/>
  <Override PartName="/ppt/media/image28.wmf" ContentType="image/x-wmf"/>
  <Override PartName="/ppt/media/image37.jpeg" ContentType="image/jpeg"/>
  <Override PartName="/ppt/media/image25.wmf" ContentType="image/x-wmf"/>
  <Override PartName="/ppt/media/image68.png" ContentType="image/png"/>
  <Override PartName="/ppt/media/image29.wmf" ContentType="image/x-wmf"/>
  <Override PartName="/ppt/media/image23.wmf" ContentType="image/x-wmf"/>
  <Override PartName="/ppt/media/image62.png" ContentType="image/png"/>
  <Override PartName="/ppt/media/image60.wmf" ContentType="image/x-wmf"/>
  <Override PartName="/ppt/media/image14.wmf" ContentType="image/x-wmf"/>
  <Override PartName="/ppt/media/image57.png" ContentType="image/png"/>
  <Override PartName="/ppt/media/image79.wmf" ContentType="image/x-wmf"/>
  <Override PartName="/ppt/media/image15.wmf" ContentType="image/x-wmf"/>
  <Override PartName="/ppt/media/image58.png" ContentType="image/png"/>
  <Override PartName="/ppt/media/image39.png" ContentType="image/png"/>
  <Override PartName="/ppt/media/image61.wmf" ContentType="image/x-wmf"/>
  <Override PartName="/ppt/media/image78.wmf" ContentType="image/x-wmf"/>
  <Override PartName="/ppt/media/image41.wmf" ContentType="image/x-wmf"/>
  <Override PartName="/ppt/media/image66.wmf" ContentType="image/x-wmf"/>
  <Override PartName="/ppt/media/image26.png" ContentType="image/png"/>
  <Override PartName="/ppt/media/image22.png" ContentType="image/png"/>
  <Override PartName="/ppt/media/image77.wmf" ContentType="image/x-wmf"/>
  <Override PartName="/ppt/media/image65.wmf" ContentType="image/x-wmf"/>
  <Override PartName="/ppt/media/image67.png" ContentType="image/png"/>
  <Override PartName="/ppt/media/image24.wmf" ContentType="image/x-wmf"/>
  <Override PartName="/ppt/media/image76.png" ContentType="image/png"/>
  <Override PartName="/ppt/media/image19.wmf" ContentType="image/x-wmf"/>
  <Override PartName="/ppt/media/image7.wmf" ContentType="image/x-wmf"/>
  <Override PartName="/ppt/media/image75.wmf" ContentType="image/x-wmf"/>
  <Override PartName="/ppt/media/image63.wmf" ContentType="image/x-wmf"/>
  <Override PartName="/ppt/media/image73.wmf" ContentType="image/x-wmf"/>
  <Override PartName="/ppt/media/image3.png" ContentType="image/png"/>
  <Override PartName="/ppt/media/image33.png" ContentType="image/png"/>
  <Override PartName="/ppt/media/image72.wmf" ContentType="image/x-wmf"/>
  <Override PartName="/ppt/media/image69.png" ContentType="image/png"/>
  <Override PartName="/ppt/media/image2.png" ContentType="image/png"/>
  <Override PartName="/ppt/media/image64.wmf" ContentType="image/x-wmf"/>
  <Override PartName="/ppt/media/image27.wmf" ContentType="image/x-wmf"/>
  <Override PartName="/ppt/media/image34.wmf" ContentType="image/x-wmf"/>
  <Override PartName="/ppt/media/image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50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52.wmf" ContentType="image/x-wmf"/>
  <Override PartName="/ppt/media/image4.wmf" ContentType="image/x-wmf"/>
  <Override PartName="/ppt/media/image16.wmf" ContentType="image/x-wmf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74B-8142-4DC7-8166-47460B74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D79-EA79-4F28-A96B-8CBB956D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FF0-026C-45D7-9518-B4F4283B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D7C-96AC-46D3-B2B0-A1EB9338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618-0FBE-4BA1-B764-39015520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EC5-EE47-4402-B6BA-10C77C83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DDB-0C9B-488A-8862-1A51764A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4F9-A526-4D86-843D-67F385C5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C8E-9755-47E6-B3F0-859B1B8E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413-22C4-490F-B2A4-D183B7BB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20C-49A9-4BD2-BDE9-9CBDE12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0F2-C9D6-44D2-8655-9ACDF94F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E966-445D-4F02-B3E5-899583A73E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412040" y="6477120"/>
            <a:ext cx="1731960" cy="380520"/>
            <a:chOff x="7412040" y="6477120"/>
            <a:chExt cx="1731960" cy="380520"/>
          </a:xfrm>
        </p:grpSpPr>
        <p:sp>
          <p:nvSpPr>
            <p:cNvPr id="6" name="">
              <a:hlinkClick r:id="" action="ppaction://hlinkshowjump?jump=previousslide"/>
            </p:cNvPr>
            <p:cNvSpPr/>
            <p:nvPr/>
          </p:nvSpPr>
          <p:spPr>
            <a:xfrm>
              <a:off x="7869240" y="6477120"/>
              <a:ext cx="360360" cy="3805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80520"/>
                <a:gd name="textAreaBottom" fmla="*/ 357480 h 380520"/>
              </a:gdLst>
              <a:ahLst/>
              <a:rect l="textAreaLeft" t="textAreaTop" r="textAreaRight" b="textAreaBottom"/>
              <a:pathLst>
                <a:path w="21600" h="22807">
                  <a:moveTo>
                    <a:pt x="0" y="0"/>
                  </a:moveTo>
                  <a:lnTo>
                    <a:pt x="21600" y="0"/>
                  </a:lnTo>
                  <a:lnTo>
                    <a:pt x="21600" y="22807"/>
                  </a:lnTo>
                  <a:lnTo>
                    <a:pt x="0" y="22807"/>
                  </a:lnTo>
                  <a:close/>
                </a:path>
                <a:path fill="lightenLess" w="21600" h="2280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07">
                  <a:moveTo>
                    <a:pt x="21600" y="0"/>
                  </a:moveTo>
                  <a:lnTo>
                    <a:pt x="21600" y="22807"/>
                  </a:lnTo>
                  <a:lnTo>
                    <a:pt x="20200" y="21407"/>
                  </a:lnTo>
                  <a:lnTo>
                    <a:pt x="20200" y="1400"/>
                  </a:lnTo>
                  <a:close/>
                </a:path>
                <a:path fill="darkenLess" w="21600" h="22807">
                  <a:moveTo>
                    <a:pt x="21600" y="22807"/>
                  </a:moveTo>
                  <a:lnTo>
                    <a:pt x="0" y="22807"/>
                  </a:lnTo>
                  <a:lnTo>
                    <a:pt x="1400" y="21407"/>
                  </a:lnTo>
                  <a:lnTo>
                    <a:pt x="20200" y="21407"/>
                  </a:lnTo>
                  <a:close/>
                </a:path>
                <a:path fill="lighten" w="21600" h="22807">
                  <a:moveTo>
                    <a:pt x="0" y="2280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07"/>
                  </a:lnTo>
                  <a:close/>
                </a:path>
                <a:path fill="darken" w="21600" h="22807">
                  <a:moveTo>
                    <a:pt x="3794" y="11404"/>
                  </a:moveTo>
                  <a:lnTo>
                    <a:pt x="17806" y="4397"/>
                  </a:lnTo>
                  <a:lnTo>
                    <a:pt x="17806" y="1841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>
              <a:hlinkClick r:id="" action="ppaction://hlinkshowjump?jump=firstslide"/>
            </p:cNvPr>
            <p:cNvSpPr/>
            <p:nvPr/>
          </p:nvSpPr>
          <p:spPr>
            <a:xfrm>
              <a:off x="7412040" y="6477120"/>
              <a:ext cx="360360" cy="3805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80520"/>
                <a:gd name="textAreaBottom" fmla="*/ 357480 h 380520"/>
              </a:gdLst>
              <a:ahLst/>
              <a:rect l="textAreaLeft" t="textAreaTop" r="textAreaRight" b="textAreaBottom"/>
              <a:pathLst>
                <a:path w="21600" h="22807">
                  <a:moveTo>
                    <a:pt x="0" y="0"/>
                  </a:moveTo>
                  <a:lnTo>
                    <a:pt x="21600" y="0"/>
                  </a:lnTo>
                  <a:lnTo>
                    <a:pt x="21600" y="22807"/>
                  </a:lnTo>
                  <a:lnTo>
                    <a:pt x="0" y="22807"/>
                  </a:lnTo>
                  <a:close/>
                </a:path>
                <a:path fill="lightenLess" w="21600" h="2280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07">
                  <a:moveTo>
                    <a:pt x="21600" y="0"/>
                  </a:moveTo>
                  <a:lnTo>
                    <a:pt x="21600" y="22807"/>
                  </a:lnTo>
                  <a:lnTo>
                    <a:pt x="20200" y="21407"/>
                  </a:lnTo>
                  <a:lnTo>
                    <a:pt x="20200" y="1400"/>
                  </a:lnTo>
                  <a:close/>
                </a:path>
                <a:path fill="darkenLess" w="21600" h="22807">
                  <a:moveTo>
                    <a:pt x="21600" y="22807"/>
                  </a:moveTo>
                  <a:lnTo>
                    <a:pt x="0" y="22807"/>
                  </a:lnTo>
                  <a:lnTo>
                    <a:pt x="1400" y="21407"/>
                  </a:lnTo>
                  <a:lnTo>
                    <a:pt x="20200" y="21407"/>
                  </a:lnTo>
                  <a:close/>
                </a:path>
                <a:path fill="lighten" w="21600" h="22807">
                  <a:moveTo>
                    <a:pt x="0" y="2280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07"/>
                  </a:lnTo>
                  <a:close/>
                </a:path>
                <a:path fill="darken" w="21600" h="22807">
                  <a:moveTo>
                    <a:pt x="7301" y="11404"/>
                  </a:moveTo>
                  <a:lnTo>
                    <a:pt x="17806" y="4397"/>
                  </a:lnTo>
                  <a:lnTo>
                    <a:pt x="17806" y="18410"/>
                  </a:lnTo>
                  <a:close/>
                </a:path>
                <a:path fill="darken" w="21600" h="22807">
                  <a:moveTo>
                    <a:pt x="3794" y="4397"/>
                  </a:moveTo>
                  <a:lnTo>
                    <a:pt x="5456" y="4397"/>
                  </a:lnTo>
                  <a:lnTo>
                    <a:pt x="5456" y="18410"/>
                  </a:lnTo>
                  <a:lnTo>
                    <a:pt x="3794" y="1841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>
              <a:hlinkClick r:id="" action="ppaction://hlinkshowjump?jump=nextslide"/>
            </p:cNvPr>
            <p:cNvSpPr/>
            <p:nvPr/>
          </p:nvSpPr>
          <p:spPr>
            <a:xfrm>
              <a:off x="8326440" y="6477120"/>
              <a:ext cx="360360" cy="3805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80520"/>
                <a:gd name="textAreaBottom" fmla="*/ 357480 h 380520"/>
              </a:gdLst>
              <a:ahLst/>
              <a:rect l="textAreaLeft" t="textAreaTop" r="textAreaRight" b="textAreaBottom"/>
              <a:pathLst>
                <a:path w="21600" h="22807">
                  <a:moveTo>
                    <a:pt x="0" y="0"/>
                  </a:moveTo>
                  <a:lnTo>
                    <a:pt x="21600" y="0"/>
                  </a:lnTo>
                  <a:lnTo>
                    <a:pt x="21600" y="22807"/>
                  </a:lnTo>
                  <a:lnTo>
                    <a:pt x="0" y="22807"/>
                  </a:lnTo>
                  <a:close/>
                </a:path>
                <a:path fill="lightenLess" w="21600" h="2280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07">
                  <a:moveTo>
                    <a:pt x="21600" y="0"/>
                  </a:moveTo>
                  <a:lnTo>
                    <a:pt x="21600" y="22807"/>
                  </a:lnTo>
                  <a:lnTo>
                    <a:pt x="20200" y="21407"/>
                  </a:lnTo>
                  <a:lnTo>
                    <a:pt x="20200" y="1400"/>
                  </a:lnTo>
                  <a:close/>
                </a:path>
                <a:path fill="darkenLess" w="21600" h="22807">
                  <a:moveTo>
                    <a:pt x="21600" y="22807"/>
                  </a:moveTo>
                  <a:lnTo>
                    <a:pt x="0" y="22807"/>
                  </a:lnTo>
                  <a:lnTo>
                    <a:pt x="1400" y="21407"/>
                  </a:lnTo>
                  <a:lnTo>
                    <a:pt x="20200" y="21407"/>
                  </a:lnTo>
                  <a:close/>
                </a:path>
                <a:path fill="lighten" w="21600" h="22807">
                  <a:moveTo>
                    <a:pt x="0" y="2280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07"/>
                  </a:lnTo>
                  <a:close/>
                </a:path>
                <a:path fill="darken" w="21600" h="22807">
                  <a:moveTo>
                    <a:pt x="3794" y="4397"/>
                  </a:moveTo>
                  <a:lnTo>
                    <a:pt x="17806" y="11404"/>
                  </a:lnTo>
                  <a:lnTo>
                    <a:pt x="3794" y="1841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>
              <a:hlinkClick r:id="" action="ppaction://hlinkshowjump?jump=lastslide"/>
            </p:cNvPr>
            <p:cNvSpPr/>
            <p:nvPr/>
          </p:nvSpPr>
          <p:spPr>
            <a:xfrm>
              <a:off x="8783640" y="6477120"/>
              <a:ext cx="360360" cy="3805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80520"/>
                <a:gd name="textAreaBottom" fmla="*/ 357480 h 380520"/>
              </a:gdLst>
              <a:ahLst/>
              <a:rect l="textAreaLeft" t="textAreaTop" r="textAreaRight" b="textAreaBottom"/>
              <a:pathLst>
                <a:path w="21600" h="22807">
                  <a:moveTo>
                    <a:pt x="0" y="0"/>
                  </a:moveTo>
                  <a:lnTo>
                    <a:pt x="21600" y="0"/>
                  </a:lnTo>
                  <a:lnTo>
                    <a:pt x="21600" y="22807"/>
                  </a:lnTo>
                  <a:lnTo>
                    <a:pt x="0" y="22807"/>
                  </a:lnTo>
                  <a:close/>
                </a:path>
                <a:path fill="lightenLess" w="21600" h="2280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07">
                  <a:moveTo>
                    <a:pt x="21600" y="0"/>
                  </a:moveTo>
                  <a:lnTo>
                    <a:pt x="21600" y="22807"/>
                  </a:lnTo>
                  <a:lnTo>
                    <a:pt x="20200" y="21407"/>
                  </a:lnTo>
                  <a:lnTo>
                    <a:pt x="20200" y="1400"/>
                  </a:lnTo>
                  <a:close/>
                </a:path>
                <a:path fill="darkenLess" w="21600" h="22807">
                  <a:moveTo>
                    <a:pt x="21600" y="22807"/>
                  </a:moveTo>
                  <a:lnTo>
                    <a:pt x="0" y="22807"/>
                  </a:lnTo>
                  <a:lnTo>
                    <a:pt x="1400" y="21407"/>
                  </a:lnTo>
                  <a:lnTo>
                    <a:pt x="20200" y="21407"/>
                  </a:lnTo>
                  <a:close/>
                </a:path>
                <a:path fill="lighten" w="21600" h="22807">
                  <a:moveTo>
                    <a:pt x="0" y="2280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07"/>
                  </a:lnTo>
                  <a:close/>
                </a:path>
                <a:path fill="darken" w="21600" h="22807">
                  <a:moveTo>
                    <a:pt x="14299" y="11404"/>
                  </a:moveTo>
                  <a:lnTo>
                    <a:pt x="3794" y="18410"/>
                  </a:lnTo>
                  <a:lnTo>
                    <a:pt x="3794" y="4397"/>
                  </a:lnTo>
                  <a:close/>
                </a:path>
                <a:path fill="darken" w="21600" h="22807">
                  <a:moveTo>
                    <a:pt x="16144" y="4397"/>
                  </a:moveTo>
                  <a:lnTo>
                    <a:pt x="16144" y="18410"/>
                  </a:lnTo>
                  <a:lnTo>
                    <a:pt x="17806" y="18410"/>
                  </a:lnTo>
                  <a:lnTo>
                    <a:pt x="17806" y="4397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948360" y="6453360"/>
            <a:ext cx="33840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image" Target="../media/image67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92360" y="1844640"/>
            <a:ext cx="61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点  的  运  动  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692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1700280"/>
            <a:ext cx="7696440" cy="3809520"/>
            <a:chOff x="826920" y="1700280"/>
            <a:chExt cx="7696440" cy="380952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826920" y="1700280"/>
                  <a:ext cx="4016160" cy="50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l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826920" y="2216520"/>
                  <a:ext cx="3810600" cy="5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34" name=""/>
            <p:cNvGraphicFramePr/>
            <p:nvPr/>
          </p:nvGraphicFramePr>
          <p:xfrm>
            <a:off x="826920" y="3782880"/>
            <a:ext cx="6276600" cy="89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920" y="3782880"/>
                      <a:ext cx="6276600" cy="89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826920" y="4556520"/>
            <a:ext cx="6127200" cy="95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6920" y="4556520"/>
                      <a:ext cx="6127200" cy="95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826920" y="2611800"/>
            <a:ext cx="7696440" cy="12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920" y="2611800"/>
                      <a:ext cx="7696440" cy="12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76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26920" y="1700280"/>
            <a:ext cx="7848720" cy="4038120"/>
            <a:chOff x="826920" y="1700280"/>
            <a:chExt cx="7848720" cy="4038120"/>
          </a:xfrm>
        </p:grpSpPr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826920" y="1700280"/>
                  <a:ext cx="4960800" cy="50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l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</m:e>
                      </m:d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834480" y="2132640"/>
                  <a:ext cx="5175360" cy="50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e>
                      </m:d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826920" y="2493360"/>
                  <a:ext cx="7848720" cy="64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l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ωt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ωt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5" name=""/>
            <p:cNvGraphicFramePr/>
            <p:nvPr/>
          </p:nvGraphicFramePr>
          <p:xfrm>
            <a:off x="1056600" y="3142440"/>
            <a:ext cx="4212720" cy="50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56600" y="3142440"/>
                      <a:ext cx="421272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908640" y="3935520"/>
            <a:ext cx="6581880" cy="865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08640" y="3935520"/>
                      <a:ext cx="6581880" cy="86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901080" y="4800960"/>
            <a:ext cx="6765480" cy="93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01080" y="4800960"/>
                      <a:ext cx="6765480" cy="93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ShockwaveFlash1"/>
          <p:cNvGraphicFramePr/>
          <p:nvPr/>
        </p:nvGraphicFramePr>
        <p:xfrm>
          <a:off x="838080" y="304812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4572000" cy="2971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395280" y="836640"/>
            <a:ext cx="8534520" cy="987480"/>
            <a:chOff x="395280" y="836640"/>
            <a:chExt cx="8534520" cy="987480"/>
          </a:xfrm>
        </p:grpSpPr>
        <p:sp>
          <p:nvSpPr>
            <p:cNvPr id="154" name=""/>
            <p:cNvSpPr/>
            <p:nvPr/>
          </p:nvSpPr>
          <p:spPr>
            <a:xfrm>
              <a:off x="395280" y="836640"/>
              <a:ext cx="8534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已知：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正弦机构如图所示。曲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M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长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绕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轴匀速转动，它与水平线间的夹角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其中  为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时的夹角，  为一常数。动杆上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点间距离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3492360" y="1339920"/>
                  <a:ext cx="1665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=</m:t>
                      </m:r>
                      <m:r>
                        <m:t xml:space="preserve">ω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56" name=""/>
            <p:cNvGraphicFramePr/>
            <p:nvPr/>
          </p:nvGraphicFramePr>
          <p:xfrm>
            <a:off x="5724360" y="1339920"/>
            <a:ext cx="3193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1339920"/>
                      <a:ext cx="3193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8" name=""/>
          <p:cNvGraphicFramePr/>
          <p:nvPr/>
        </p:nvGraphicFramePr>
        <p:xfrm>
          <a:off x="4932360" y="3573360"/>
          <a:ext cx="3429000" cy="28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3573360"/>
                    <a:ext cx="34290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2160" y="333360"/>
            <a:ext cx="9853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62600" y="2301840"/>
            <a:ext cx="468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：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运动方程及点</a:t>
            </a:r>
            <a:r>
              <a:rPr b="1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速度和加速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93280" y="692280"/>
            <a:ext cx="39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都作直线运动，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87600" y="141300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68360" y="2060640"/>
                <a:ext cx="52578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2708280"/>
                <a:ext cx="4248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5940360" y="1197000"/>
          <a:ext cx="2971800" cy="29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197000"/>
                    <a:ext cx="297180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5880" y="3213000"/>
            <a:ext cx="22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的速度和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11280" y="3759120"/>
                <a:ext cx="42480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ω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0" name=""/>
          <p:cNvGraphicFramePr/>
          <p:nvPr/>
        </p:nvGraphicFramePr>
        <p:xfrm>
          <a:off x="611280" y="4292640"/>
          <a:ext cx="55450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292640"/>
                    <a:ext cx="55450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156360" y="3933720"/>
            <a:ext cx="2987640" cy="191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00360" y="50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周期运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916360" y="5013360"/>
            <a:ext cx="2286000" cy="1601640"/>
            <a:chOff x="2916360" y="5013360"/>
            <a:chExt cx="2286000" cy="1601640"/>
          </a:xfrm>
        </p:grpSpPr>
        <p:graphicFrame>
          <p:nvGraphicFramePr>
            <p:cNvPr id="175" name=""/>
            <p:cNvGraphicFramePr/>
            <p:nvPr/>
          </p:nvGraphicFramePr>
          <p:xfrm>
            <a:off x="2916360" y="5013360"/>
            <a:ext cx="2286000" cy="628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16360" y="5013360"/>
                      <a:ext cx="228600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916360" y="5622840"/>
                  <a:ext cx="2209680" cy="99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频率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324720" y="692280"/>
            <a:ext cx="6073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ShockwaveFlash1"/>
          <p:cNvGraphicFramePr/>
          <p:nvPr/>
        </p:nvGraphicFramePr>
        <p:xfrm>
          <a:off x="2556000" y="3500280"/>
          <a:ext cx="4176720" cy="29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500280"/>
                    <a:ext cx="4176720" cy="293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336600" y="692280"/>
            <a:ext cx="8807400" cy="1836720"/>
            <a:chOff x="336600" y="692280"/>
            <a:chExt cx="8807400" cy="1836720"/>
          </a:xfrm>
        </p:grpSpPr>
        <p:sp>
          <p:nvSpPr>
            <p:cNvPr id="182" name=""/>
            <p:cNvSpPr/>
            <p:nvPr/>
          </p:nvSpPr>
          <p:spPr>
            <a:xfrm>
              <a:off x="336600" y="692280"/>
              <a:ext cx="8807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：如图所示，当液压减振器工作时，它的活塞在套筒内作直线往复运动。设活塞的加速度                   　　　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  为活塞的速度，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比例常数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初速度为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6948360" y="1341360"/>
            <a:ext cx="12970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48360" y="1341360"/>
                      <a:ext cx="12970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826920" y="1916280"/>
            <a:ext cx="374760" cy="523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920" y="1916280"/>
                      <a:ext cx="3747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7956720" y="1844640"/>
            <a:ext cx="455400" cy="68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56720" y="1844640"/>
                      <a:ext cx="45540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851280" y="1989000"/>
                  <a:ext cx="2588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488160" y="311040"/>
            <a:ext cx="11196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69000" y="2492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：活塞的运动规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76360" y="476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塞作直线运动，取坐标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403280" y="1125360"/>
          <a:ext cx="23734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25360"/>
                    <a:ext cx="2373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971640" y="2060640"/>
          <a:ext cx="31813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060640"/>
                    <a:ext cx="3181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066680" y="3078000"/>
          <a:ext cx="335304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078000"/>
                    <a:ext cx="3353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990720" y="3886200"/>
          <a:ext cx="2609640" cy="89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886200"/>
                    <a:ext cx="2609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042920" y="4869000"/>
          <a:ext cx="3152880" cy="79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4869000"/>
                    <a:ext cx="315288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116000" y="5516640"/>
          <a:ext cx="3035160" cy="98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5516640"/>
                    <a:ext cx="303516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ShockwaveFlash1"/>
          <p:cNvGraphicFramePr/>
          <p:nvPr/>
        </p:nvGraphicFramePr>
        <p:xfrm>
          <a:off x="5334120" y="2209680"/>
          <a:ext cx="3581280" cy="289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ShockwaveFlash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2209680"/>
                    <a:ext cx="3581280" cy="28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93640" y="476280"/>
            <a:ext cx="5464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370760" y="544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齿轮上一点的运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292428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765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啮合齿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248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1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19520" y="357120"/>
            <a:ext cx="49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§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5-3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自然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63400" y="2057400"/>
            <a:ext cx="3216240" cy="527040"/>
            <a:chOff x="563400" y="2057400"/>
            <a:chExt cx="3216240" cy="527040"/>
          </a:xfrm>
        </p:grpSpPr>
        <p:graphicFrame>
          <p:nvGraphicFramePr>
            <p:cNvPr id="214" name=""/>
            <p:cNvGraphicFramePr/>
            <p:nvPr/>
          </p:nvGraphicFramePr>
          <p:xfrm>
            <a:off x="2338200" y="2073240"/>
            <a:ext cx="1441440" cy="511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38200" y="2073240"/>
                      <a:ext cx="144144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563400" y="20574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弧坐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49760" y="5410080"/>
            <a:ext cx="3598560" cy="507960"/>
            <a:chOff x="1049760" y="5410080"/>
            <a:chExt cx="3598560" cy="507960"/>
          </a:xfrm>
        </p:grpSpPr>
        <p:sp>
          <p:nvSpPr>
            <p:cNvPr id="218" name=""/>
            <p:cNvSpPr/>
            <p:nvPr/>
          </p:nvSpPr>
          <p:spPr>
            <a:xfrm>
              <a:off x="1049760" y="54435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副法线单位矢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" name=""/>
            <p:cNvGraphicFramePr/>
            <p:nvPr/>
          </p:nvGraphicFramePr>
          <p:xfrm>
            <a:off x="3225960" y="5410080"/>
            <a:ext cx="142236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25960" y="5410080"/>
                      <a:ext cx="1422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1" name=""/>
          <p:cNvGrpSpPr/>
          <p:nvPr/>
        </p:nvGrpSpPr>
        <p:grpSpPr>
          <a:xfrm>
            <a:off x="558720" y="3886200"/>
            <a:ext cx="2412720" cy="533520"/>
            <a:chOff x="558720" y="3886200"/>
            <a:chExt cx="2412720" cy="533520"/>
          </a:xfrm>
        </p:grpSpPr>
        <p:graphicFrame>
          <p:nvGraphicFramePr>
            <p:cNvPr id="222" name=""/>
            <p:cNvGraphicFramePr/>
            <p:nvPr/>
          </p:nvGraphicFramePr>
          <p:xfrm>
            <a:off x="2539800" y="3926160"/>
            <a:ext cx="431640" cy="49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39800" y="3926160"/>
                      <a:ext cx="4316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558720" y="3886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切向单位矢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09480" y="4648320"/>
            <a:ext cx="2743200" cy="533160"/>
            <a:chOff x="609480" y="4648320"/>
            <a:chExt cx="2743200" cy="533160"/>
          </a:xfrm>
        </p:grpSpPr>
        <p:graphicFrame>
          <p:nvGraphicFramePr>
            <p:cNvPr id="226" name=""/>
            <p:cNvGraphicFramePr/>
            <p:nvPr/>
          </p:nvGraphicFramePr>
          <p:xfrm>
            <a:off x="2900160" y="4664160"/>
            <a:ext cx="452520" cy="517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00160" y="4664160"/>
                      <a:ext cx="45252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609480" y="46483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主法线单位矢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29720" y="25671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轴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990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自然法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点的运动轨迹建立弧坐标和自然轴系，利用它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和分析点的运动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5148360" y="1773360"/>
            <a:ext cx="3649680" cy="1447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0"/>
          <a:stretch/>
        </p:blipFill>
        <p:spPr>
          <a:xfrm>
            <a:off x="5148360" y="3284640"/>
            <a:ext cx="3762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84360" y="7650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曲线在</a:t>
            </a:r>
            <a:r>
              <a:rPr b="0" i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P</a:t>
            </a:r>
            <a:r>
              <a:rPr b="0" i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点的密切面形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007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5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362400" y="685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坐标轴的几何性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ShockwaveFlash1"/>
          <p:cNvGraphicFramePr/>
          <p:nvPr/>
        </p:nvGraphicFramePr>
        <p:xfrm>
          <a:off x="1447920" y="1447920"/>
          <a:ext cx="6400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400800" cy="4724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43280" y="551664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点的三维变速曲线运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2801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037880" y="990720"/>
            <a:ext cx="4861440" cy="1109520"/>
            <a:chOff x="1037880" y="990720"/>
            <a:chExt cx="4861440" cy="1109520"/>
          </a:xfrm>
        </p:grpSpPr>
        <p:graphicFrame>
          <p:nvGraphicFramePr>
            <p:cNvPr id="239" name=""/>
            <p:cNvGraphicFramePr/>
            <p:nvPr/>
          </p:nvGraphicFramePr>
          <p:xfrm>
            <a:off x="1930680" y="990720"/>
            <a:ext cx="396864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0680" y="990720"/>
                      <a:ext cx="396864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037880" y="1347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357600" y="1295280"/>
            <a:ext cx="1222560" cy="459720"/>
            <a:chOff x="6357600" y="1295280"/>
            <a:chExt cx="1222560" cy="459720"/>
          </a:xfrm>
        </p:grpSpPr>
        <p:sp>
          <p:nvSpPr>
            <p:cNvPr id="243" name=""/>
            <p:cNvSpPr/>
            <p:nvPr/>
          </p:nvSpPr>
          <p:spPr>
            <a:xfrm>
              <a:off x="6357600" y="1295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方向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4" name=""/>
            <p:cNvGraphicFramePr/>
            <p:nvPr/>
          </p:nvGraphicFramePr>
          <p:xfrm>
            <a:off x="7315200" y="1319040"/>
            <a:ext cx="26496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319040"/>
                      <a:ext cx="26496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6" name=""/>
          <p:cNvGrpSpPr/>
          <p:nvPr/>
        </p:nvGrpSpPr>
        <p:grpSpPr>
          <a:xfrm>
            <a:off x="1037880" y="2362320"/>
            <a:ext cx="2615040" cy="933480"/>
            <a:chOff x="1037880" y="2362320"/>
            <a:chExt cx="2615040" cy="933480"/>
          </a:xfrm>
        </p:grpSpPr>
        <p:graphicFrame>
          <p:nvGraphicFramePr>
            <p:cNvPr id="247" name=""/>
            <p:cNvGraphicFramePr/>
            <p:nvPr/>
          </p:nvGraphicFramePr>
          <p:xfrm>
            <a:off x="2286000" y="2362320"/>
            <a:ext cx="136692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2362320"/>
                      <a:ext cx="136692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"/>
            <p:cNvSpPr/>
            <p:nvPr/>
          </p:nvSpPr>
          <p:spPr>
            <a:xfrm>
              <a:off x="1037880" y="2590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所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2916360" y="907560"/>
            <a:ext cx="647640" cy="108108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49800" y="260280"/>
            <a:ext cx="3834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1979640" y="3573360"/>
            <a:ext cx="5371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676520" y="2133720"/>
          <a:ext cx="54878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4878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066680" y="533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475080" y="3124080"/>
          <a:ext cx="3078000" cy="9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5080" y="3124080"/>
                    <a:ext cx="307800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066680" y="3276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4214880"/>
            <a:ext cx="4114800" cy="976320"/>
            <a:chOff x="2057400" y="4214880"/>
            <a:chExt cx="4114800" cy="976320"/>
          </a:xfrm>
        </p:grpSpPr>
        <p:graphicFrame>
          <p:nvGraphicFramePr>
            <p:cNvPr id="260" name=""/>
            <p:cNvGraphicFramePr/>
            <p:nvPr/>
          </p:nvGraphicFramePr>
          <p:xfrm>
            <a:off x="3452760" y="4214880"/>
            <a:ext cx="2719440" cy="97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52760" y="4214880"/>
                      <a:ext cx="2719440" cy="97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"/>
            <p:cNvSpPr/>
            <p:nvPr/>
          </p:nvSpPr>
          <p:spPr>
            <a:xfrm>
              <a:off x="2057400" y="44197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代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62320" y="5257800"/>
            <a:ext cx="4674600" cy="992160"/>
            <a:chOff x="2362320" y="5257800"/>
            <a:chExt cx="4674600" cy="992160"/>
          </a:xfrm>
        </p:grpSpPr>
        <p:graphicFrame>
          <p:nvGraphicFramePr>
            <p:cNvPr id="264" name=""/>
            <p:cNvGraphicFramePr/>
            <p:nvPr/>
          </p:nvGraphicFramePr>
          <p:xfrm>
            <a:off x="3352680" y="5257800"/>
            <a:ext cx="3684240" cy="9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2680" y="5257800"/>
                      <a:ext cx="368424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362320" y="556272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4572000" y="260280"/>
            <a:ext cx="2867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780000" y="62064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切向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51280" y="1557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法向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029200"/>
            <a:ext cx="2657520" cy="4597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线匀变速运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476360" y="404640"/>
                <a:ext cx="16462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476360" y="1413000"/>
                <a:ext cx="2016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t xml:space="preserve">ds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476360" y="2708280"/>
                <a:ext cx="2057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762120" y="4343400"/>
            <a:ext cx="2514600" cy="4597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线匀速运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429000" y="4343400"/>
            <a:ext cx="4572000" cy="459720"/>
            <a:chOff x="3429000" y="4343400"/>
            <a:chExt cx="4572000" cy="459720"/>
          </a:xfrm>
        </p:grpSpPr>
        <p:sp>
          <p:nvSpPr>
            <p:cNvPr id="276" name=""/>
            <p:cNvSpPr/>
            <p:nvPr/>
          </p:nvSpPr>
          <p:spPr>
            <a:xfrm>
              <a:off x="5486400" y="43434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常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429000" y="4419720"/>
                  <a:ext cx="4572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8" name=""/>
          <p:cNvGrpSpPr/>
          <p:nvPr/>
        </p:nvGrpSpPr>
        <p:grpSpPr>
          <a:xfrm>
            <a:off x="853920" y="5410080"/>
            <a:ext cx="5851800" cy="723960"/>
            <a:chOff x="853920" y="5410080"/>
            <a:chExt cx="5851800" cy="723960"/>
          </a:xfrm>
        </p:grpSpPr>
        <p:sp>
          <p:nvSpPr>
            <p:cNvPr id="279" name=""/>
            <p:cNvSpPr/>
            <p:nvPr/>
          </p:nvSpPr>
          <p:spPr>
            <a:xfrm>
              <a:off x="1371600" y="5562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常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853920" y="5410080"/>
                  <a:ext cx="58518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,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763800" y="2060640"/>
            <a:ext cx="5380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11280" y="836640"/>
            <a:ext cx="7924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知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车沿半径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800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弧轨道作匀加速运动。如初速度为零，经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mi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速度到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4km/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124000" y="3500280"/>
            <a:ext cx="5257800" cy="2627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03800" y="237960"/>
            <a:ext cx="11196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92680" y="2565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：列车起点和未点的加速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085640" y="54936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车作曲线加速运动，取弧坐标如上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03280" y="3716280"/>
            <a:ext cx="3099960" cy="520560"/>
            <a:chOff x="1403280" y="3716280"/>
            <a:chExt cx="3099960" cy="520560"/>
          </a:xfrm>
        </p:grpSpPr>
        <p:sp>
          <p:nvSpPr>
            <p:cNvPr id="288" name=""/>
            <p:cNvSpPr/>
            <p:nvPr/>
          </p:nvSpPr>
          <p:spPr>
            <a:xfrm flipH="1">
              <a:off x="1403280" y="37162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2053800" y="3771720"/>
                  <a:ext cx="2449440" cy="40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i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160720" y="5562720"/>
                <a:ext cx="3859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133720" y="4572000"/>
                <a:ext cx="4475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1427760" y="2924280"/>
            <a:ext cx="5558760" cy="520560"/>
            <a:chOff x="1427760" y="2924280"/>
            <a:chExt cx="5558760" cy="520560"/>
          </a:xfrm>
        </p:grpSpPr>
        <p:sp>
          <p:nvSpPr>
            <p:cNvPr id="293" name=""/>
            <p:cNvSpPr/>
            <p:nvPr/>
          </p:nvSpPr>
          <p:spPr>
            <a:xfrm>
              <a:off x="1427760" y="2924280"/>
              <a:ext cx="49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165040" y="2979720"/>
                  <a:ext cx="17370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4298760" y="2982960"/>
                  <a:ext cx="268776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5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/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050920" y="1989000"/>
                <a:ext cx="39196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7" name=""/>
          <p:cNvGrpSpPr/>
          <p:nvPr/>
        </p:nvGrpSpPr>
        <p:grpSpPr>
          <a:xfrm>
            <a:off x="1332000" y="1268280"/>
            <a:ext cx="5568480" cy="529920"/>
            <a:chOff x="1332000" y="1268280"/>
            <a:chExt cx="5568480" cy="52992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5599080" y="1298160"/>
                  <a:ext cx="130140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>
              <a:off x="5038920" y="1268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1806480" y="1371240"/>
                  <a:ext cx="26125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1332000" y="127764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由        常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96360" y="549360"/>
            <a:ext cx="6073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834200" y="1916280"/>
            <a:ext cx="27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运动方程，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636560" y="2525760"/>
                <a:ext cx="54435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28640" y="3076560"/>
                <a:ext cx="5299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6" name=""/>
          <p:cNvGraphicFramePr/>
          <p:nvPr/>
        </p:nvGraphicFramePr>
        <p:xfrm>
          <a:off x="1658880" y="3627360"/>
          <a:ext cx="283068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3627360"/>
                    <a:ext cx="28306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887400" y="4403880"/>
          <a:ext cx="764064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7400" y="4403880"/>
                    <a:ext cx="76406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887400" y="5556240"/>
          <a:ext cx="268452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7400" y="5556240"/>
                    <a:ext cx="26845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2" name=""/>
          <p:cNvGrpSpPr/>
          <p:nvPr/>
        </p:nvGrpSpPr>
        <p:grpSpPr>
          <a:xfrm>
            <a:off x="395280" y="692280"/>
            <a:ext cx="7993080" cy="1109160"/>
            <a:chOff x="395280" y="692280"/>
            <a:chExt cx="7993080" cy="1109160"/>
          </a:xfrm>
        </p:grpSpPr>
        <p:sp>
          <p:nvSpPr>
            <p:cNvPr id="313" name=""/>
            <p:cNvSpPr/>
            <p:nvPr/>
          </p:nvSpPr>
          <p:spPr>
            <a:xfrm>
              <a:off x="395280" y="692280"/>
              <a:ext cx="79930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点的运动方程为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2sin 4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m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2cos 4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m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=4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m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6084720" y="1268280"/>
                  <a:ext cx="4222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2562480" y="1195560"/>
              <a:ext cx="34725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求：点运动轨迹的曲率半径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944720" y="4917960"/>
                <a:ext cx="35528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430560" y="189000"/>
            <a:ext cx="133308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0720" y="1844640"/>
            <a:ext cx="6073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24000" y="836640"/>
            <a:ext cx="8550000" cy="1082520"/>
            <a:chOff x="324000" y="836640"/>
            <a:chExt cx="8550000" cy="1082520"/>
          </a:xfrm>
        </p:grpSpPr>
        <p:sp>
          <p:nvSpPr>
            <p:cNvPr id="320" name=""/>
            <p:cNvSpPr/>
            <p:nvPr/>
          </p:nvSpPr>
          <p:spPr>
            <a:xfrm>
              <a:off x="324000" y="836640"/>
              <a:ext cx="8550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：半径为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轮子沿直线轨道无滑动地滚动（称为纯滚动），设轮子转角　       为常值），如图所示。求用直角坐标和弧坐标表示的轮缘上任一点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运动方程，并求该点的速度、切向加速度及法向加速度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1" name=""/>
            <p:cNvGraphicFramePr/>
            <p:nvPr/>
          </p:nvGraphicFramePr>
          <p:xfrm>
            <a:off x="5148360" y="1413000"/>
            <a:ext cx="1482480" cy="50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48360" y="1413000"/>
                      <a:ext cx="148248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3" name="ShockwaveFlash1"/>
          <p:cNvGraphicFramePr/>
          <p:nvPr/>
        </p:nvGraphicFramePr>
        <p:xfrm>
          <a:off x="2286000" y="3352680"/>
          <a:ext cx="50292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52680"/>
                    <a:ext cx="5029200" cy="289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59440" y="166680"/>
            <a:ext cx="11196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50920" y="476280"/>
            <a:ext cx="5181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作曲线运动，取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角坐标系如图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116000" y="2852640"/>
          <a:ext cx="33526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852640"/>
                    <a:ext cx="3352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900000" y="18446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纯滚动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71640" y="3789360"/>
            <a:ext cx="6933960" cy="1479600"/>
            <a:chOff x="971640" y="3789360"/>
            <a:chExt cx="6933960" cy="1479600"/>
          </a:xfrm>
        </p:grpSpPr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062080" y="3789360"/>
                  <a:ext cx="584352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OC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M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ϕ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(</m:t>
                      </m:r>
                      <m:r>
                        <m:t xml:space="preserve">ωt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2031840" y="4730760"/>
                  <a:ext cx="53816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C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M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ω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"/>
            <p:cNvSpPr/>
            <p:nvPr/>
          </p:nvSpPr>
          <p:spPr>
            <a:xfrm>
              <a:off x="971640" y="40989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从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983040" cy="2071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96360" y="549360"/>
            <a:ext cx="6073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395280" y="692280"/>
          <a:ext cx="6588000" cy="59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92280"/>
                    <a:ext cx="658800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24000" y="1557360"/>
                <a:ext cx="8065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t xml:space="preserve">rω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（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9" name=""/>
          <p:cNvGraphicFramePr/>
          <p:nvPr/>
        </p:nvGraphicFramePr>
        <p:xfrm>
          <a:off x="324000" y="3429000"/>
          <a:ext cx="65466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9000"/>
                    <a:ext cx="65466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24000" y="4076640"/>
                <a:ext cx="301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2" name=""/>
          <p:cNvGraphicFramePr/>
          <p:nvPr/>
        </p:nvGraphicFramePr>
        <p:xfrm>
          <a:off x="324000" y="2421000"/>
          <a:ext cx="8200800" cy="8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421000"/>
                    <a:ext cx="82008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743400" y="486900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切向加速度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572000" y="4724280"/>
                <a:ext cx="27194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ω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556000" y="5589720"/>
                <a:ext cx="38448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ω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55640" y="587700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90920" y="304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§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5-1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矢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ShockwaveFlash1"/>
          <p:cNvGraphicFramePr/>
          <p:nvPr/>
        </p:nvGraphicFramePr>
        <p:xfrm>
          <a:off x="5562720" y="1125360"/>
          <a:ext cx="325908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125360"/>
                    <a:ext cx="3259080" cy="2532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3" name=""/>
          <p:cNvGrpSpPr/>
          <p:nvPr/>
        </p:nvGrpSpPr>
        <p:grpSpPr>
          <a:xfrm>
            <a:off x="905040" y="1295280"/>
            <a:ext cx="3209400" cy="914400"/>
            <a:chOff x="905040" y="1295280"/>
            <a:chExt cx="3209400" cy="914400"/>
          </a:xfrm>
        </p:grpSpPr>
        <p:graphicFrame>
          <p:nvGraphicFramePr>
            <p:cNvPr id="54" name=""/>
            <p:cNvGraphicFramePr/>
            <p:nvPr/>
          </p:nvGraphicFramePr>
          <p:xfrm>
            <a:off x="2643120" y="1525320"/>
            <a:ext cx="1471320" cy="6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3120" y="1525320"/>
                      <a:ext cx="147132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905040" y="1295280"/>
              <a:ext cx="1371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05040" y="1523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运动方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838080" y="4114800"/>
            <a:ext cx="7391520" cy="1322280"/>
            <a:chOff x="838080" y="4114800"/>
            <a:chExt cx="7391520" cy="1322280"/>
          </a:xfrm>
        </p:grpSpPr>
        <p:sp>
          <p:nvSpPr>
            <p:cNvPr id="59" name=""/>
            <p:cNvSpPr/>
            <p:nvPr/>
          </p:nvSpPr>
          <p:spPr>
            <a:xfrm>
              <a:off x="838080" y="4495680"/>
              <a:ext cx="13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加速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13280" y="4648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单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"/>
            <p:cNvGraphicFramePr/>
            <p:nvPr/>
          </p:nvGraphicFramePr>
          <p:xfrm>
            <a:off x="7520040" y="4648320"/>
            <a:ext cx="709560" cy="438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20040" y="4648320"/>
                      <a:ext cx="70956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2392200" y="4114800"/>
            <a:ext cx="3659400" cy="1322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92200" y="4114800"/>
                      <a:ext cx="3659400" cy="13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" name=""/>
          <p:cNvSpPr/>
          <p:nvPr/>
        </p:nvSpPr>
        <p:spPr>
          <a:xfrm>
            <a:off x="838080" y="55767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隶书"/>
              </a:rPr>
              <a:t>提问：如何确定速度和加速度的方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900000" y="2362320"/>
            <a:ext cx="3276720" cy="1526400"/>
            <a:chOff x="900000" y="2362320"/>
            <a:chExt cx="3276720" cy="1526400"/>
          </a:xfrm>
        </p:grpSpPr>
        <p:sp>
          <p:nvSpPr>
            <p:cNvPr id="67" name=""/>
            <p:cNvSpPr/>
            <p:nvPr/>
          </p:nvSpPr>
          <p:spPr>
            <a:xfrm>
              <a:off x="236232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单位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900000" y="2362320"/>
              <a:ext cx="3276720" cy="928440"/>
              <a:chOff x="900000" y="2362320"/>
              <a:chExt cx="3276720" cy="928440"/>
            </a:xfrm>
          </p:grpSpPr>
          <p:sp>
            <p:nvSpPr>
              <p:cNvPr id="69" name=""/>
              <p:cNvSpPr/>
              <p:nvPr/>
            </p:nvSpPr>
            <p:spPr>
              <a:xfrm>
                <a:off x="900000" y="259056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速度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0" name=""/>
              <p:cNvGraphicFramePr/>
              <p:nvPr/>
            </p:nvGraphicFramePr>
            <p:xfrm>
              <a:off x="2423880" y="2362320"/>
              <a:ext cx="1752840" cy="928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423880" y="2362320"/>
                        <a:ext cx="1752840" cy="92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3505320" y="3505320"/>
                  <a:ext cx="4824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/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838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矢端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952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矢径矢端曲线切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50292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矢端曲线切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811680" cy="2539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1905120"/>
            <a:ext cx="38113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65520" y="46483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角坐标与矢径坐标之间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76520" y="5257800"/>
          <a:ext cx="58147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257800"/>
                    <a:ext cx="58147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146600" y="1770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76520" y="2590920"/>
          <a:ext cx="135252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590920"/>
                    <a:ext cx="1352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438280" y="425520"/>
            <a:ext cx="53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§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5-2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直角坐标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ShockwaveFlash1"/>
          <p:cNvGraphicFramePr/>
          <p:nvPr/>
        </p:nvGraphicFramePr>
        <p:xfrm>
          <a:off x="4572000" y="1752480"/>
          <a:ext cx="396252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752480"/>
                    <a:ext cx="3962520" cy="2971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22400" y="1855800"/>
          <a:ext cx="125748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1855800"/>
                    <a:ext cx="12574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52640" y="3124080"/>
          <a:ext cx="132408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3124080"/>
                    <a:ext cx="13240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981080" y="4495680"/>
          <a:ext cx="128772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95680"/>
                    <a:ext cx="12877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828800" y="498600"/>
          <a:ext cx="6292800" cy="94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498600"/>
                    <a:ext cx="6292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ShockwaveFlash1"/>
          <p:cNvGraphicFramePr/>
          <p:nvPr/>
        </p:nvGraphicFramePr>
        <p:xfrm>
          <a:off x="4419720" y="2286000"/>
          <a:ext cx="41148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ShockwaveFlash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2286000"/>
                    <a:ext cx="411480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62120" y="685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74760" y="3716280"/>
          <a:ext cx="222084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3716280"/>
                    <a:ext cx="22208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312920" y="5029200"/>
          <a:ext cx="209844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2920" y="5029200"/>
                    <a:ext cx="2098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312920" y="2362320"/>
          <a:ext cx="2249280" cy="102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2920" y="2362320"/>
                    <a:ext cx="22492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903240" y="480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7760" y="1219320"/>
          <a:ext cx="679752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7760" y="1219320"/>
                    <a:ext cx="6797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ShockwaveFlash1"/>
          <p:cNvGraphicFramePr/>
          <p:nvPr/>
        </p:nvGraphicFramePr>
        <p:xfrm>
          <a:off x="4495680" y="2819520"/>
          <a:ext cx="41148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ShockwaveFlash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2819520"/>
                    <a:ext cx="411480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2640" y="29718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：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的运动方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786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轨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5259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21172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速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ShockwaveFlash1"/>
          <p:cNvGraphicFramePr/>
          <p:nvPr/>
        </p:nvGraphicFramePr>
        <p:xfrm>
          <a:off x="4419720" y="2743200"/>
          <a:ext cx="4724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743200"/>
                    <a:ext cx="4724280" cy="3505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324000" y="1052640"/>
            <a:ext cx="8076960" cy="1505880"/>
            <a:chOff x="324000" y="1052640"/>
            <a:chExt cx="8076960" cy="1505880"/>
          </a:xfrm>
        </p:grpSpPr>
        <p:sp>
          <p:nvSpPr>
            <p:cNvPr id="116" name=""/>
            <p:cNvSpPr/>
            <p:nvPr/>
          </p:nvSpPr>
          <p:spPr>
            <a:xfrm>
              <a:off x="324000" y="1052640"/>
              <a:ext cx="80769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：椭圆规的曲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C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绕定轴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O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转动，其端点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与规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B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中点以铰链相连接，而规尺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端分别在相互垂直的滑槽中运动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3059280" y="2203560"/>
            <a:ext cx="4968720" cy="354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59280" y="2203560"/>
                      <a:ext cx="496872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" name=""/>
          <p:cNvSpPr/>
          <p:nvPr/>
        </p:nvSpPr>
        <p:spPr>
          <a:xfrm>
            <a:off x="276840" y="219240"/>
            <a:ext cx="16070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42920" y="836640"/>
            <a:ext cx="73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曲线运动，取坐标系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Ox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1413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动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205000"/>
          <a:ext cx="540864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05000"/>
                    <a:ext cx="5408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00000" y="2924280"/>
          <a:ext cx="472464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924280"/>
                    <a:ext cx="47246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900000" y="386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消去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轨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0720" y="4708440"/>
                <a:ext cx="335268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181480" y="3514680"/>
            <a:ext cx="3633840" cy="2698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8920" y="836640"/>
            <a:ext cx="5464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1:43:34Z</dcterms:created>
  <dc:creator>lll</dc:creator>
  <dc:description/>
  <dc:language>en-US</dc:language>
  <cp:lastModifiedBy>hep</cp:lastModifiedBy>
  <dcterms:modified xsi:type="dcterms:W3CDTF">2009-10-21T06:46:28Z</dcterms:modified>
  <cp:revision>371</cp:revision>
  <dc:subject/>
  <dc:title>第六章</dc:title>
</cp:coreProperties>
</file>