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4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5.wmf" ContentType="image/x-wmf"/>
  <Override PartName="/ppt/media/image35.wmf" ContentType="image/x-wmf"/>
  <Override PartName="/ppt/media/image25.png" ContentType="image/png"/>
  <Override PartName="/ppt/media/image28.png" ContentType="image/png"/>
  <Override PartName="/ppt/media/image13.wmf" ContentType="image/x-wmf"/>
  <Override PartName="/ppt/media/image36.png" ContentType="image/png"/>
  <Override PartName="/ppt/media/image39.wmf" ContentType="image/x-wmf"/>
  <Override PartName="/ppt/media/image9.wmf" ContentType="image/x-wmf"/>
  <Override PartName="/ppt/media/image38.wmf" ContentType="image/x-wmf"/>
  <Override PartName="/ppt/media/image40.png" ContentType="image/png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11.wmf" ContentType="image/x-wmf"/>
  <Override PartName="/ppt/media/image12.wmf" ContentType="image/x-wmf"/>
  <Override PartName="/ppt/media/image41.wmf" ContentType="image/x-wmf"/>
  <Override PartName="/ppt/media/image8.png" ContentType="image/png"/>
  <Override PartName="/ppt/media/image16.wmf" ContentType="image/x-wmf"/>
  <Override PartName="/ppt/media/image37.png" ContentType="image/png"/>
  <Override PartName="/ppt/media/image7.png" ContentType="image/png"/>
  <Override PartName="/ppt/media/image15.wmf" ContentType="image/x-wmf"/>
  <Override PartName="/ppt/media/image2.png" ContentType="image/png"/>
  <Override PartName="/ppt/media/image32.png" ContentType="image/png"/>
  <Override PartName="/ppt/media/image1.jpeg" ContentType="image/jpeg"/>
  <Override PartName="/ppt/media/image47.png" ContentType="image/png"/>
  <Override PartName="/ppt/media/image6.wmf" ContentType="image/x-wmf"/>
  <Override PartName="/ppt/media/image29.wmf" ContentType="image/x-wmf"/>
  <Override PartName="/ppt/media/image3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92C9-6A04-4E15-BE09-0A39D52A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361D-1201-4BB9-9315-85DAC018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3924-91AA-4F1F-9DC3-367252C3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3E32-FD62-4E49-A23E-73CB41F2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2684-46DB-448E-8A45-935E0A49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45C0-6DC0-4C76-A318-E220B59A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58E3-0A0C-4E9A-8F99-D2982803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C011-327E-4E6E-99A5-26F57405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432-FE95-4A19-909A-579E1A4E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B49B-325B-4551-84AA-F12D893C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B308-F513-4C3B-9313-BBB03AF6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0146-0020-4E47-876D-ED941B78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7A96-B138-4F1A-859F-E7B4AC2EE7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412040" y="6477120"/>
            <a:ext cx="1731960" cy="380520"/>
            <a:chOff x="7412040" y="6477120"/>
            <a:chExt cx="1731960" cy="380520"/>
          </a:xfrm>
        </p:grpSpPr>
        <p:sp>
          <p:nvSpPr>
            <p:cNvPr id="6" name="">
              <a:hlinkClick r:id="" action="ppaction://hlinkshowjump?jump=previousslide"/>
            </p:cNvPr>
            <p:cNvSpPr/>
            <p:nvPr/>
          </p:nvSpPr>
          <p:spPr>
            <a:xfrm>
              <a:off x="7869240" y="6477120"/>
              <a:ext cx="360360" cy="38052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80520"/>
                <a:gd name="textAreaBottom" fmla="*/ 357480 h 380520"/>
              </a:gdLst>
              <a:ahLst/>
              <a:rect l="textAreaLeft" t="textAreaTop" r="textAreaRight" b="textAreaBottom"/>
              <a:pathLst>
                <a:path w="21600" h="22807">
                  <a:moveTo>
                    <a:pt x="0" y="0"/>
                  </a:moveTo>
                  <a:lnTo>
                    <a:pt x="21600" y="0"/>
                  </a:lnTo>
                  <a:lnTo>
                    <a:pt x="21600" y="22807"/>
                  </a:lnTo>
                  <a:lnTo>
                    <a:pt x="0" y="22807"/>
                  </a:lnTo>
                  <a:close/>
                </a:path>
                <a:path fill="lightenLess" w="21600" h="22807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807">
                  <a:moveTo>
                    <a:pt x="21600" y="0"/>
                  </a:moveTo>
                  <a:lnTo>
                    <a:pt x="21600" y="22807"/>
                  </a:lnTo>
                  <a:lnTo>
                    <a:pt x="20200" y="21407"/>
                  </a:lnTo>
                  <a:lnTo>
                    <a:pt x="20200" y="1400"/>
                  </a:lnTo>
                  <a:close/>
                </a:path>
                <a:path fill="darkenLess" w="21600" h="22807">
                  <a:moveTo>
                    <a:pt x="21600" y="22807"/>
                  </a:moveTo>
                  <a:lnTo>
                    <a:pt x="0" y="22807"/>
                  </a:lnTo>
                  <a:lnTo>
                    <a:pt x="1400" y="21407"/>
                  </a:lnTo>
                  <a:lnTo>
                    <a:pt x="20200" y="21407"/>
                  </a:lnTo>
                  <a:close/>
                </a:path>
                <a:path fill="lighten" w="21600" h="22807">
                  <a:moveTo>
                    <a:pt x="0" y="22807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407"/>
                  </a:lnTo>
                  <a:close/>
                </a:path>
                <a:path fill="darken" w="21600" h="22807">
                  <a:moveTo>
                    <a:pt x="3794" y="11404"/>
                  </a:moveTo>
                  <a:lnTo>
                    <a:pt x="17806" y="4397"/>
                  </a:lnTo>
                  <a:lnTo>
                    <a:pt x="17806" y="18410"/>
                  </a:ln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>
              <a:hlinkClick r:id="" action="ppaction://hlinkshowjump?jump=firstslide"/>
            </p:cNvPr>
            <p:cNvSpPr/>
            <p:nvPr/>
          </p:nvSpPr>
          <p:spPr>
            <a:xfrm>
              <a:off x="7412040" y="6477120"/>
              <a:ext cx="360360" cy="38052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80520"/>
                <a:gd name="textAreaBottom" fmla="*/ 357480 h 380520"/>
              </a:gdLst>
              <a:ahLst/>
              <a:rect l="textAreaLeft" t="textAreaTop" r="textAreaRight" b="textAreaBottom"/>
              <a:pathLst>
                <a:path w="21600" h="22807">
                  <a:moveTo>
                    <a:pt x="0" y="0"/>
                  </a:moveTo>
                  <a:lnTo>
                    <a:pt x="21600" y="0"/>
                  </a:lnTo>
                  <a:lnTo>
                    <a:pt x="21600" y="22807"/>
                  </a:lnTo>
                  <a:lnTo>
                    <a:pt x="0" y="22807"/>
                  </a:lnTo>
                  <a:close/>
                </a:path>
                <a:path fill="lightenLess" w="21600" h="22807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807">
                  <a:moveTo>
                    <a:pt x="21600" y="0"/>
                  </a:moveTo>
                  <a:lnTo>
                    <a:pt x="21600" y="22807"/>
                  </a:lnTo>
                  <a:lnTo>
                    <a:pt x="20200" y="21407"/>
                  </a:lnTo>
                  <a:lnTo>
                    <a:pt x="20200" y="1400"/>
                  </a:lnTo>
                  <a:close/>
                </a:path>
                <a:path fill="darkenLess" w="21600" h="22807">
                  <a:moveTo>
                    <a:pt x="21600" y="22807"/>
                  </a:moveTo>
                  <a:lnTo>
                    <a:pt x="0" y="22807"/>
                  </a:lnTo>
                  <a:lnTo>
                    <a:pt x="1400" y="21407"/>
                  </a:lnTo>
                  <a:lnTo>
                    <a:pt x="20200" y="21407"/>
                  </a:lnTo>
                  <a:close/>
                </a:path>
                <a:path fill="lighten" w="21600" h="22807">
                  <a:moveTo>
                    <a:pt x="0" y="22807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407"/>
                  </a:lnTo>
                  <a:close/>
                </a:path>
                <a:path fill="darken" w="21600" h="22807">
                  <a:moveTo>
                    <a:pt x="7301" y="11404"/>
                  </a:moveTo>
                  <a:lnTo>
                    <a:pt x="17806" y="4397"/>
                  </a:lnTo>
                  <a:lnTo>
                    <a:pt x="17806" y="18410"/>
                  </a:lnTo>
                  <a:close/>
                </a:path>
                <a:path fill="darken" w="21600" h="22807">
                  <a:moveTo>
                    <a:pt x="3794" y="4397"/>
                  </a:moveTo>
                  <a:lnTo>
                    <a:pt x="5456" y="4397"/>
                  </a:lnTo>
                  <a:lnTo>
                    <a:pt x="5456" y="18410"/>
                  </a:lnTo>
                  <a:lnTo>
                    <a:pt x="3794" y="18410"/>
                  </a:ln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>
              <a:hlinkClick r:id="" action="ppaction://hlinkshowjump?jump=nextslide"/>
            </p:cNvPr>
            <p:cNvSpPr/>
            <p:nvPr/>
          </p:nvSpPr>
          <p:spPr>
            <a:xfrm>
              <a:off x="8326440" y="6477120"/>
              <a:ext cx="360360" cy="38052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80520"/>
                <a:gd name="textAreaBottom" fmla="*/ 357480 h 380520"/>
              </a:gdLst>
              <a:ahLst/>
              <a:rect l="textAreaLeft" t="textAreaTop" r="textAreaRight" b="textAreaBottom"/>
              <a:pathLst>
                <a:path w="21600" h="22807">
                  <a:moveTo>
                    <a:pt x="0" y="0"/>
                  </a:moveTo>
                  <a:lnTo>
                    <a:pt x="21600" y="0"/>
                  </a:lnTo>
                  <a:lnTo>
                    <a:pt x="21600" y="22807"/>
                  </a:lnTo>
                  <a:lnTo>
                    <a:pt x="0" y="22807"/>
                  </a:lnTo>
                  <a:close/>
                </a:path>
                <a:path fill="lightenLess" w="21600" h="22807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807">
                  <a:moveTo>
                    <a:pt x="21600" y="0"/>
                  </a:moveTo>
                  <a:lnTo>
                    <a:pt x="21600" y="22807"/>
                  </a:lnTo>
                  <a:lnTo>
                    <a:pt x="20200" y="21407"/>
                  </a:lnTo>
                  <a:lnTo>
                    <a:pt x="20200" y="1400"/>
                  </a:lnTo>
                  <a:close/>
                </a:path>
                <a:path fill="darkenLess" w="21600" h="22807">
                  <a:moveTo>
                    <a:pt x="21600" y="22807"/>
                  </a:moveTo>
                  <a:lnTo>
                    <a:pt x="0" y="22807"/>
                  </a:lnTo>
                  <a:lnTo>
                    <a:pt x="1400" y="21407"/>
                  </a:lnTo>
                  <a:lnTo>
                    <a:pt x="20200" y="21407"/>
                  </a:lnTo>
                  <a:close/>
                </a:path>
                <a:path fill="lighten" w="21600" h="22807">
                  <a:moveTo>
                    <a:pt x="0" y="22807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407"/>
                  </a:lnTo>
                  <a:close/>
                </a:path>
                <a:path fill="darken" w="21600" h="22807">
                  <a:moveTo>
                    <a:pt x="3794" y="4397"/>
                  </a:moveTo>
                  <a:lnTo>
                    <a:pt x="17806" y="11404"/>
                  </a:lnTo>
                  <a:lnTo>
                    <a:pt x="3794" y="18410"/>
                  </a:ln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>
              <a:hlinkClick r:id="" action="ppaction://hlinkshowjump?jump=lastslide"/>
            </p:cNvPr>
            <p:cNvSpPr/>
            <p:nvPr/>
          </p:nvSpPr>
          <p:spPr>
            <a:xfrm>
              <a:off x="8783640" y="6477120"/>
              <a:ext cx="360360" cy="38052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80520"/>
                <a:gd name="textAreaBottom" fmla="*/ 357480 h 380520"/>
              </a:gdLst>
              <a:ahLst/>
              <a:rect l="textAreaLeft" t="textAreaTop" r="textAreaRight" b="textAreaBottom"/>
              <a:pathLst>
                <a:path w="21600" h="22807">
                  <a:moveTo>
                    <a:pt x="0" y="0"/>
                  </a:moveTo>
                  <a:lnTo>
                    <a:pt x="21600" y="0"/>
                  </a:lnTo>
                  <a:lnTo>
                    <a:pt x="21600" y="22807"/>
                  </a:lnTo>
                  <a:lnTo>
                    <a:pt x="0" y="22807"/>
                  </a:lnTo>
                  <a:close/>
                </a:path>
                <a:path fill="lightenLess" w="21600" h="22807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807">
                  <a:moveTo>
                    <a:pt x="21600" y="0"/>
                  </a:moveTo>
                  <a:lnTo>
                    <a:pt x="21600" y="22807"/>
                  </a:lnTo>
                  <a:lnTo>
                    <a:pt x="20200" y="21407"/>
                  </a:lnTo>
                  <a:lnTo>
                    <a:pt x="20200" y="1400"/>
                  </a:lnTo>
                  <a:close/>
                </a:path>
                <a:path fill="darkenLess" w="21600" h="22807">
                  <a:moveTo>
                    <a:pt x="21600" y="22807"/>
                  </a:moveTo>
                  <a:lnTo>
                    <a:pt x="0" y="22807"/>
                  </a:lnTo>
                  <a:lnTo>
                    <a:pt x="1400" y="21407"/>
                  </a:lnTo>
                  <a:lnTo>
                    <a:pt x="20200" y="21407"/>
                  </a:lnTo>
                  <a:close/>
                </a:path>
                <a:path fill="lighten" w="21600" h="22807">
                  <a:moveTo>
                    <a:pt x="0" y="22807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407"/>
                  </a:lnTo>
                  <a:close/>
                </a:path>
                <a:path fill="darken" w="21600" h="22807">
                  <a:moveTo>
                    <a:pt x="14299" y="11404"/>
                  </a:moveTo>
                  <a:lnTo>
                    <a:pt x="3794" y="18410"/>
                  </a:lnTo>
                  <a:lnTo>
                    <a:pt x="3794" y="4397"/>
                  </a:lnTo>
                  <a:close/>
                </a:path>
                <a:path fill="darken" w="21600" h="22807">
                  <a:moveTo>
                    <a:pt x="16144" y="4397"/>
                  </a:moveTo>
                  <a:lnTo>
                    <a:pt x="16144" y="18410"/>
                  </a:lnTo>
                  <a:lnTo>
                    <a:pt x="17806" y="18410"/>
                  </a:lnTo>
                  <a:lnTo>
                    <a:pt x="17806" y="4397"/>
                  </a:ln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6948360" y="6480000"/>
            <a:ext cx="338400" cy="33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92360" y="1844640"/>
            <a:ext cx="5505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第六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刚体的简单运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10476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§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6-5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以矢量表示角速度和角加速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　　　以矢积表示点的速度和加速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78640" y="13748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角速度矢量和角加速度矢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56400" y="2057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角速度矢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52480" y="4572000"/>
          <a:ext cx="137160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572000"/>
                    <a:ext cx="13716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438920" y="5181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角加速度矢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835280" y="5661000"/>
          <a:ext cx="2674800" cy="8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5661000"/>
                    <a:ext cx="26748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486400" y="3962520"/>
            <a:ext cx="3429000" cy="243828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990720" y="2641680"/>
            <a:ext cx="4343400" cy="1749960"/>
            <a:chOff x="990720" y="2641680"/>
            <a:chExt cx="4343400" cy="1749960"/>
          </a:xfrm>
        </p:grpSpPr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990720" y="3429000"/>
                  <a:ext cx="24120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2895480" y="2641680"/>
                  <a:ext cx="165096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ω</m:t>
                          </m:r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f>
                            <m:num>
                              <m:r>
                                <m:t xml:space="preserve">dϕ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40" name=""/>
            <p:cNvSpPr/>
            <p:nvPr/>
          </p:nvSpPr>
          <p:spPr>
            <a:xfrm>
              <a:off x="1676520" y="2819520"/>
              <a:ext cx="36576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大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作用线  沿轴线  滑动矢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指向      右手螺旋定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47920" y="2895480"/>
              <a:ext cx="228600" cy="13716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5435640" y="1628640"/>
            <a:ext cx="370836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2160" y="220680"/>
            <a:ext cx="41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绕定轴转动刚体上点的速度和加速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加速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523880" y="2254320"/>
            <a:ext cx="2667240" cy="2622600"/>
            <a:chOff x="1523880" y="2254320"/>
            <a:chExt cx="2667240" cy="2622600"/>
          </a:xfrm>
        </p:grpSpPr>
        <p:graphicFrame>
          <p:nvGraphicFramePr>
            <p:cNvPr id="146" name=""/>
            <p:cNvGraphicFramePr/>
            <p:nvPr/>
          </p:nvGraphicFramePr>
          <p:xfrm>
            <a:off x="1523880" y="2254320"/>
            <a:ext cx="2506680" cy="834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2254320"/>
                      <a:ext cx="2506680" cy="83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"/>
            <p:cNvGraphicFramePr/>
            <p:nvPr/>
          </p:nvGraphicFramePr>
          <p:xfrm>
            <a:off x="1886040" y="3048120"/>
            <a:ext cx="2305080" cy="871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86040" y="3048120"/>
                      <a:ext cx="2305080" cy="8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"/>
            <p:cNvGraphicFramePr/>
            <p:nvPr/>
          </p:nvGraphicFramePr>
          <p:xfrm>
            <a:off x="1905120" y="3886200"/>
            <a:ext cx="2019240" cy="430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05120" y="3886200"/>
                      <a:ext cx="2019240" cy="43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1981080" y="4495680"/>
                  <a:ext cx="10414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3" name=""/>
          <p:cNvGrpSpPr/>
          <p:nvPr/>
        </p:nvGrpSpPr>
        <p:grpSpPr>
          <a:xfrm>
            <a:off x="685800" y="5010120"/>
            <a:ext cx="5424480" cy="459720"/>
            <a:chOff x="685800" y="5010120"/>
            <a:chExt cx="5424480" cy="459720"/>
          </a:xfrm>
        </p:grpSpPr>
        <p:sp>
          <p:nvSpPr>
            <p:cNvPr id="154" name=""/>
            <p:cNvSpPr/>
            <p:nvPr/>
          </p:nvSpPr>
          <p:spPr>
            <a:xfrm>
              <a:off x="3672000" y="50101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990033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990033"/>
                  </a:solidFill>
                  <a:latin typeface="楷体_GB2312"/>
                  <a:ea typeface="楷体_GB2312"/>
                </a:rPr>
                <a:t>点切向加速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685800" y="5029200"/>
                  <a:ext cx="11937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α</m:t>
                          </m:r>
                        </m:e>
                      </m:acc>
                      <m:r>
                        <m:t xml:space="preserve">×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6" name=""/>
          <p:cNvGrpSpPr/>
          <p:nvPr/>
        </p:nvGrpSpPr>
        <p:grpSpPr>
          <a:xfrm>
            <a:off x="685800" y="5695920"/>
            <a:ext cx="5881680" cy="459720"/>
            <a:chOff x="685800" y="5695920"/>
            <a:chExt cx="5881680" cy="459720"/>
          </a:xfrm>
        </p:grpSpPr>
        <p:sp>
          <p:nvSpPr>
            <p:cNvPr id="157" name=""/>
            <p:cNvSpPr/>
            <p:nvPr/>
          </p:nvSpPr>
          <p:spPr>
            <a:xfrm>
              <a:off x="3732120" y="5695920"/>
              <a:ext cx="28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990033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990033"/>
                  </a:solidFill>
                  <a:latin typeface="楷体_GB2312"/>
                  <a:ea typeface="楷体_GB2312"/>
                </a:rPr>
                <a:t>点法向加速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685800" y="5715000"/>
                  <a:ext cx="279396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ω</m:t>
                          </m:r>
                        </m:e>
                      </m:acc>
                      <m:r>
                        <m:t xml:space="preserve">×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ω</m:t>
                          </m:r>
                        </m:e>
                      </m:acc>
                      <m:r>
                        <m:t xml:space="preserve">×</m:t>
                      </m:r>
                      <m:r>
                        <m:t xml:space="preserve">(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ω</m:t>
                          </m:r>
                        </m:e>
                      </m:acc>
                      <m:r>
                        <m:t xml:space="preserve">×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9" name=""/>
          <p:cNvGrpSpPr/>
          <p:nvPr/>
        </p:nvGrpSpPr>
        <p:grpSpPr>
          <a:xfrm>
            <a:off x="380880" y="1066680"/>
            <a:ext cx="5969160" cy="1015920"/>
            <a:chOff x="380880" y="1066680"/>
            <a:chExt cx="5969160" cy="1015920"/>
          </a:xfrm>
        </p:grpSpPr>
        <p:sp>
          <p:nvSpPr>
            <p:cNvPr id="160" name=""/>
            <p:cNvSpPr/>
            <p:nvPr/>
          </p:nvSpPr>
          <p:spPr>
            <a:xfrm>
              <a:off x="380880" y="1295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速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1295280" y="1371600"/>
                  <a:ext cx="110520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ω</m:t>
                          </m:r>
                        </m:e>
                      </m:acc>
                      <m:r>
                        <m:t xml:space="preserve">×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3733920" y="1104840"/>
                  <a:ext cx="261612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e>
                      </m:d>
                      <m:r>
                        <m:t xml:space="preserve">⋅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</m:d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θ</m:t>
                      </m:r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e>
                      </m:d>
                      <m:r>
                        <m:t xml:space="preserve">R</m:t>
                      </m:r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63" name=""/>
            <p:cNvSpPr/>
            <p:nvPr/>
          </p:nvSpPr>
          <p:spPr>
            <a:xfrm>
              <a:off x="2666880" y="1066680"/>
              <a:ext cx="36576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大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方向     右手定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38280" y="1168560"/>
              <a:ext cx="228600" cy="7365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080 h 736560"/>
                <a:gd name="textAreaBottom" fmla="*/ 717480 h 7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6732720" y="836640"/>
            <a:ext cx="1738080" cy="2879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6443640" y="3645000"/>
            <a:ext cx="20685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468360" y="620640"/>
            <a:ext cx="8915400" cy="1300320"/>
            <a:chOff x="468360" y="620640"/>
            <a:chExt cx="8915400" cy="1300320"/>
          </a:xfrm>
        </p:grpSpPr>
        <p:sp>
          <p:nvSpPr>
            <p:cNvPr id="168" name=""/>
            <p:cNvSpPr/>
            <p:nvPr/>
          </p:nvSpPr>
          <p:spPr>
            <a:xfrm>
              <a:off x="468360" y="620640"/>
              <a:ext cx="89154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已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刚体绕定轴转动，已知转轴通过坐标原点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角速度矢为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9" name=""/>
            <p:cNvGraphicFramePr/>
            <p:nvPr/>
          </p:nvGraphicFramePr>
          <p:xfrm>
            <a:off x="1547640" y="1052640"/>
            <a:ext cx="4597560" cy="86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47640" y="1052640"/>
                      <a:ext cx="4597560" cy="86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1" name=""/>
          <p:cNvSpPr/>
          <p:nvPr/>
        </p:nvSpPr>
        <p:spPr>
          <a:xfrm>
            <a:off x="-181080" y="177336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：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t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=1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刚体上点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速度矢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速度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987640" y="4437000"/>
          <a:ext cx="3297240" cy="5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4437000"/>
                    <a:ext cx="329724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476360" y="2565360"/>
          <a:ext cx="5467320" cy="195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2565360"/>
                    <a:ext cx="546732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2195640" y="4869000"/>
          <a:ext cx="4897440" cy="83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95640" y="4869000"/>
                    <a:ext cx="48974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496960" y="5635800"/>
          <a:ext cx="4811760" cy="892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96960" y="5635800"/>
                    <a:ext cx="481176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611280" y="187200"/>
            <a:ext cx="115236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9800" y="2708280"/>
            <a:ext cx="60732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764720" y="227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角速度矢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98760" y="3429000"/>
            <a:ext cx="369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相对于转轴上一点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矢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752480" y="4267080"/>
          <a:ext cx="624852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267080"/>
                    <a:ext cx="62485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1828800" y="4952880"/>
          <a:ext cx="6095880" cy="15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952880"/>
                    <a:ext cx="609588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395280" y="549360"/>
            <a:ext cx="8534520" cy="1006200"/>
            <a:chOff x="395280" y="549360"/>
            <a:chExt cx="8534520" cy="1006200"/>
          </a:xfrm>
        </p:grpSpPr>
        <p:sp>
          <p:nvSpPr>
            <p:cNvPr id="189" name=""/>
            <p:cNvSpPr/>
            <p:nvPr/>
          </p:nvSpPr>
          <p:spPr>
            <a:xfrm>
              <a:off x="395280" y="549360"/>
              <a:ext cx="853452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已知：某定轴转动刚体通过点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），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其角速度矢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方向余弦为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0.6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0.48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0.64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角速度 的大小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</a:rPr>
                <a:t>ω=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25rad/s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0" name=""/>
            <p:cNvGraphicFramePr/>
            <p:nvPr/>
          </p:nvGraphicFramePr>
          <p:xfrm>
            <a:off x="1619280" y="981000"/>
            <a:ext cx="384120" cy="447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19280" y="981000"/>
                      <a:ext cx="38412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2" name=""/>
          <p:cNvGrpSpPr/>
          <p:nvPr/>
        </p:nvGrpSpPr>
        <p:grpSpPr>
          <a:xfrm>
            <a:off x="2303640" y="2757600"/>
            <a:ext cx="5773680" cy="547560"/>
            <a:chOff x="2303640" y="2757600"/>
            <a:chExt cx="5773680" cy="547560"/>
          </a:xfrm>
        </p:grpSpPr>
        <p:graphicFrame>
          <p:nvGraphicFramePr>
            <p:cNvPr id="193" name=""/>
            <p:cNvGraphicFramePr/>
            <p:nvPr/>
          </p:nvGraphicFramePr>
          <p:xfrm>
            <a:off x="2303640" y="2819520"/>
            <a:ext cx="1277640" cy="458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303640" y="2819520"/>
                      <a:ext cx="1277640" cy="45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4952880" y="2895480"/>
                  <a:ext cx="312444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,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8</m:t>
                      </m:r>
                      <m:r>
                        <m:t xml:space="preserve">,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"/>
            <p:cNvSpPr/>
            <p:nvPr/>
          </p:nvSpPr>
          <p:spPr>
            <a:xfrm>
              <a:off x="4038480" y="27576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其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39640" y="115920"/>
            <a:ext cx="122400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68560" y="1844640"/>
            <a:ext cx="53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：刚体上点</a:t>
            </a:r>
            <a:r>
              <a:rPr b="0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速度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6720" y="2297160"/>
            <a:ext cx="60732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900000" y="1052640"/>
            <a:ext cx="1150920" cy="720720"/>
            <a:chOff x="900000" y="1052640"/>
            <a:chExt cx="1150920" cy="720720"/>
          </a:xfrm>
        </p:grpSpPr>
        <p:sp>
          <p:nvSpPr>
            <p:cNvPr id="202" name=""/>
            <p:cNvSpPr/>
            <p:nvPr/>
          </p:nvSpPr>
          <p:spPr>
            <a:xfrm>
              <a:off x="900000" y="112536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求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1547640" y="1052640"/>
                  <a:ext cx="42228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a</m:t>
                          </m:r>
                        </m:num>
                        <m:den>
                          <m: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4" name=""/>
          <p:cNvGrpSpPr/>
          <p:nvPr/>
        </p:nvGrpSpPr>
        <p:grpSpPr>
          <a:xfrm>
            <a:off x="684360" y="549360"/>
            <a:ext cx="7775280" cy="576000"/>
            <a:chOff x="684360" y="549360"/>
            <a:chExt cx="7775280" cy="576000"/>
          </a:xfrm>
        </p:grpSpPr>
        <p:sp>
          <p:nvSpPr>
            <p:cNvPr id="205" name=""/>
            <p:cNvSpPr/>
            <p:nvPr/>
          </p:nvSpPr>
          <p:spPr>
            <a:xfrm>
              <a:off x="684360" y="620640"/>
              <a:ext cx="77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矢量绕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z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轴以角速度</a:t>
              </a:r>
              <a:r>
                <a:rPr b="1" lang="el-GR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ω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转动，若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常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5508720" y="549360"/>
                  <a:ext cx="37440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a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"/>
          <p:cNvSpPr/>
          <p:nvPr/>
        </p:nvSpPr>
        <p:spPr>
          <a:xfrm>
            <a:off x="2617920" y="1936800"/>
            <a:ext cx="48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矢量的端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成是绕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z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作定轴转动刚体上的一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476360" y="2492280"/>
                <a:ext cx="10080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550880" y="3860640"/>
                <a:ext cx="44578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a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×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900000" y="328464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从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300720" y="2781360"/>
            <a:ext cx="2640240" cy="3384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23440" y="168120"/>
            <a:ext cx="98532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4920" y="1916280"/>
            <a:ext cx="54648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36680" y="509760"/>
            <a:ext cx="65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§6-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１刚体的平行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82720" y="1295280"/>
            <a:ext cx="7804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刚体内任一直线在运动过程中始终平行于初始位置，这种运动称为平行移动，简称平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1905120" y="2666880"/>
          <a:ext cx="533376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666880"/>
                    <a:ext cx="5333760" cy="3733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86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速度和加速度分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0" y="4419720"/>
          <a:ext cx="2571840" cy="9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419720"/>
                    <a:ext cx="257184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410080" y="4343400"/>
          <a:ext cx="3048120" cy="94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343400"/>
                    <a:ext cx="304812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629000" y="5638680"/>
            <a:ext cx="1826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刚体平移→点的运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700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动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163600" y="1442880"/>
          <a:ext cx="1874880" cy="6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63600" y="1442880"/>
                    <a:ext cx="18748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" name=""/>
          <p:cNvGrpSpPr/>
          <p:nvPr/>
        </p:nvGrpSpPr>
        <p:grpSpPr>
          <a:xfrm>
            <a:off x="1191960" y="2971800"/>
            <a:ext cx="2846520" cy="1084320"/>
            <a:chOff x="1191960" y="2971800"/>
            <a:chExt cx="2846520" cy="1084320"/>
          </a:xfrm>
        </p:grpSpPr>
        <p:graphicFrame>
          <p:nvGraphicFramePr>
            <p:cNvPr id="62" name=""/>
            <p:cNvGraphicFramePr/>
            <p:nvPr/>
          </p:nvGraphicFramePr>
          <p:xfrm>
            <a:off x="2438280" y="2971800"/>
            <a:ext cx="1600200" cy="1084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438280" y="2971800"/>
                      <a:ext cx="1600200" cy="108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"/>
            <p:cNvSpPr/>
            <p:nvPr/>
          </p:nvSpPr>
          <p:spPr>
            <a:xfrm>
              <a:off x="1191960" y="3352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因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191960" y="4572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4211640" y="549360"/>
            <a:ext cx="409572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828800" y="2728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§6-2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刚体绕定轴的转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3352680"/>
            <a:ext cx="26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动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219320" y="4114800"/>
                <a:ext cx="16761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1066680" y="2590920"/>
            <a:ext cx="320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轴 ：两点连线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0666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刚体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其扩展部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点保持不动，则这种运动称为刚体绕定轴转动，简称刚体的转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ShockwaveFlash1"/>
          <p:cNvGraphicFramePr/>
          <p:nvPr/>
        </p:nvGraphicFramePr>
        <p:xfrm>
          <a:off x="3733920" y="3048120"/>
          <a:ext cx="472428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3048120"/>
                    <a:ext cx="4724280" cy="3276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74" name=""/>
          <p:cNvGrpSpPr/>
          <p:nvPr/>
        </p:nvGrpSpPr>
        <p:grpSpPr>
          <a:xfrm>
            <a:off x="4267080" y="2570040"/>
            <a:ext cx="3805200" cy="480600"/>
            <a:chOff x="4267080" y="2570040"/>
            <a:chExt cx="3805200" cy="480600"/>
          </a:xfrm>
        </p:grpSpPr>
        <p:sp>
          <p:nvSpPr>
            <p:cNvPr id="75" name=""/>
            <p:cNvSpPr/>
            <p:nvPr/>
          </p:nvSpPr>
          <p:spPr>
            <a:xfrm>
              <a:off x="4267080" y="2590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转角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6" name=""/>
            <p:cNvGraphicFramePr/>
            <p:nvPr/>
          </p:nvGraphicFramePr>
          <p:xfrm>
            <a:off x="5257800" y="2666880"/>
            <a:ext cx="322200" cy="381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57800" y="2666880"/>
                      <a:ext cx="3222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/>
            <p:nvPr/>
          </p:nvSpPr>
          <p:spPr>
            <a:xfrm>
              <a:off x="5843520" y="2570040"/>
              <a:ext cx="222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单位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弧度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ra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2286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角速度和角加速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12333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角速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606760" y="774720"/>
          <a:ext cx="3448080" cy="13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6760" y="774720"/>
                    <a:ext cx="344808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610000" y="2286000"/>
          <a:ext cx="3028680" cy="88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10000" y="2286000"/>
                    <a:ext cx="302868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762120" y="2535120"/>
            <a:ext cx="16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角加速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643120" y="3581280"/>
          <a:ext cx="1608120" cy="84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3120" y="3581280"/>
                    <a:ext cx="160812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4943520" y="3733920"/>
          <a:ext cx="1685880" cy="525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43520" y="3733920"/>
                    <a:ext cx="168588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762120" y="3733920"/>
            <a:ext cx="1649160" cy="45972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匀速转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603520" y="4572000"/>
          <a:ext cx="4770360" cy="1724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03520" y="4572000"/>
                    <a:ext cx="477036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762120" y="4800600"/>
            <a:ext cx="1793880" cy="45972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匀变速转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325440"/>
            <a:ext cx="937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§6-3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转动刚体内各点的速度和加速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28000" y="25146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速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828800" y="3200400"/>
          <a:ext cx="2441520" cy="4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200400"/>
                    <a:ext cx="24415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762120" y="374796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速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900000" y="4437000"/>
                <a:ext cx="3489480" cy="18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dv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α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ω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R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1112400" y="129528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的运动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09680" y="1981080"/>
          <a:ext cx="109404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1981080"/>
                    <a:ext cx="10940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4284720" y="1197000"/>
            <a:ext cx="4335480" cy="1969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4716360" y="3573360"/>
            <a:ext cx="416556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09680" y="460440"/>
            <a:ext cx="26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速度与加速度分布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52480" y="4191120"/>
          <a:ext cx="122076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191120"/>
                    <a:ext cx="12207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105520" y="4114800"/>
                <a:ext cx="36558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rad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105520" y="5029200"/>
                <a:ext cx="22525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9640" y="1268280"/>
            <a:ext cx="4118040" cy="244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716360" y="1268280"/>
            <a:ext cx="422460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763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§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４　轮系的传动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9000" y="1317600"/>
            <a:ext cx="16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齿轮传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70640" y="241452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啮合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676520" y="3276720"/>
          <a:ext cx="271764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276720"/>
                    <a:ext cx="27176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1046520" y="4334040"/>
            <a:ext cx="13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传动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5105520"/>
          <a:ext cx="2950920" cy="90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5105520"/>
                    <a:ext cx="295092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788000" y="981000"/>
            <a:ext cx="4105080" cy="2484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5867280" y="3716280"/>
            <a:ext cx="271944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44400" y="685800"/>
            <a:ext cx="26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带轮传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666880" y="4495680"/>
          <a:ext cx="409284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495680"/>
                    <a:ext cx="40928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809880" y="5105520"/>
          <a:ext cx="1752840" cy="98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5105520"/>
                    <a:ext cx="175284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763640" y="1341360"/>
            <a:ext cx="616104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2:38:11Z</dcterms:created>
  <dc:creator>lll</dc:creator>
  <dc:description/>
  <dc:language>en-US</dc:language>
  <cp:lastModifiedBy>zl</cp:lastModifiedBy>
  <dcterms:modified xsi:type="dcterms:W3CDTF">2009-06-18T23:55:32Z</dcterms:modified>
  <cp:revision>209</cp:revision>
  <dc:subject/>
  <dc:title>第七章</dc:title>
</cp:coreProperties>
</file>